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5A8-AA8D-4E4A-B93B-95C24C72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197-5E7D-46D4-986B-205187AB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380-DF36-4005-9653-E14B6016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542-B8DB-4BA0-8722-C7F200A7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736-4E8D-4305-AFD4-ACA35A50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585-1621-41B7-8AD5-59FF2E5A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9F1-C216-4D2C-9DF9-4C60B2E7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5E5-75F4-4DB1-A900-43E78896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046-9401-4279-91A1-FD1D8382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65B-08C4-4433-8E99-5AE717EC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D40-202E-41BA-8ABA-A927538B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411-65BA-4C54-B422-E5F37DDB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412A-52DD-4074-92AF-46B6B4511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1752480"/>
                <a:ext cx="9144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278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95280" y="3251160"/>
                <a:ext cx="13716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187720" y="2214720"/>
            <a:ext cx="608040" cy="420480"/>
          </a:xfrm>
          <a:custGeom>
            <a:avLst/>
            <a:gdLst/>
            <a:ahLst/>
            <a:rect l="l" t="t" r="r" b="b"/>
            <a:pathLst>
              <a:path w="1688" h="1166">
                <a:moveTo>
                  <a:pt x="6077" y="6623"/>
                </a:moveTo>
                <a:cubicBezTo>
                  <a:pt x="6159" y="6601"/>
                  <a:pt x="6244" y="6595"/>
                  <a:pt x="6325" y="6573"/>
                </a:cubicBezTo>
                <a:cubicBezTo>
                  <a:pt x="6410" y="6550"/>
                  <a:pt x="6439" y="6573"/>
                  <a:pt x="6524" y="6573"/>
                </a:cubicBezTo>
                <a:cubicBezTo>
                  <a:pt x="6607" y="6573"/>
                  <a:pt x="6689" y="6573"/>
                  <a:pt x="6772" y="6573"/>
                </a:cubicBezTo>
              </a:path>
              <a:path w="1688" h="1166">
                <a:moveTo>
                  <a:pt x="6400" y="6821"/>
                </a:moveTo>
                <a:cubicBezTo>
                  <a:pt x="6345" y="6913"/>
                  <a:pt x="6390" y="7015"/>
                  <a:pt x="6400" y="7119"/>
                </a:cubicBezTo>
                <a:cubicBezTo>
                  <a:pt x="6406" y="7184"/>
                  <a:pt x="6400" y="7252"/>
                  <a:pt x="6400" y="7317"/>
                </a:cubicBezTo>
              </a:path>
              <a:path w="1688" h="1166">
                <a:moveTo>
                  <a:pt x="7317" y="6276"/>
                </a:moveTo>
                <a:cubicBezTo>
                  <a:pt x="7465" y="6226"/>
                  <a:pt x="7609" y="6167"/>
                  <a:pt x="7764" y="6152"/>
                </a:cubicBezTo>
              </a:path>
              <a:path w="1688" h="1166">
                <a:moveTo>
                  <a:pt x="7392" y="6598"/>
                </a:moveTo>
                <a:cubicBezTo>
                  <a:pt x="7510" y="6576"/>
                  <a:pt x="7616" y="6533"/>
                  <a:pt x="7739" y="65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06800" y="1874880"/>
            <a:ext cx="341280" cy="768240"/>
          </a:xfrm>
          <a:custGeom>
            <a:avLst/>
            <a:gdLst/>
            <a:ahLst/>
            <a:rect l="l" t="t" r="r" b="b"/>
            <a:pathLst>
              <a:path w="944" h="2134">
                <a:moveTo>
                  <a:pt x="9153" y="5581"/>
                </a:moveTo>
                <a:cubicBezTo>
                  <a:pt x="9180" y="5458"/>
                  <a:pt x="9114" y="5341"/>
                  <a:pt x="9004" y="5259"/>
                </a:cubicBezTo>
                <a:cubicBezTo>
                  <a:pt x="8829" y="5127"/>
                  <a:pt x="8725" y="5300"/>
                  <a:pt x="8682" y="5457"/>
                </a:cubicBezTo>
                <a:cubicBezTo>
                  <a:pt x="8659" y="5617"/>
                  <a:pt x="8645" y="5662"/>
                  <a:pt x="8706" y="5755"/>
                </a:cubicBezTo>
                <a:cubicBezTo>
                  <a:pt x="8940" y="5791"/>
                  <a:pt x="8973" y="5694"/>
                  <a:pt x="9054" y="5457"/>
                </a:cubicBezTo>
                <a:cubicBezTo>
                  <a:pt x="9062" y="5424"/>
                  <a:pt x="9071" y="5391"/>
                  <a:pt x="9079" y="5358"/>
                </a:cubicBezTo>
                <a:cubicBezTo>
                  <a:pt x="9079" y="5333"/>
                  <a:pt x="9079" y="5308"/>
                  <a:pt x="9079" y="5283"/>
                </a:cubicBezTo>
                <a:cubicBezTo>
                  <a:pt x="9108" y="5574"/>
                  <a:pt x="9138" y="5863"/>
                  <a:pt x="9178" y="6152"/>
                </a:cubicBezTo>
                <a:cubicBezTo>
                  <a:pt x="9178" y="6160"/>
                  <a:pt x="9178" y="6168"/>
                  <a:pt x="9178" y="6176"/>
                </a:cubicBezTo>
              </a:path>
              <a:path w="944" h="2134">
                <a:moveTo>
                  <a:pt x="8632" y="6598"/>
                </a:moveTo>
                <a:cubicBezTo>
                  <a:pt x="8909" y="6531"/>
                  <a:pt x="9175" y="6439"/>
                  <a:pt x="9451" y="6375"/>
                </a:cubicBezTo>
                <a:cubicBezTo>
                  <a:pt x="9525" y="6356"/>
                  <a:pt x="9532" y="6348"/>
                  <a:pt x="9575" y="6350"/>
                </a:cubicBezTo>
              </a:path>
              <a:path w="944" h="2134">
                <a:moveTo>
                  <a:pt x="8880" y="6796"/>
                </a:moveTo>
                <a:cubicBezTo>
                  <a:pt x="8914" y="6912"/>
                  <a:pt x="8916" y="6944"/>
                  <a:pt x="8905" y="7069"/>
                </a:cubicBezTo>
                <a:cubicBezTo>
                  <a:pt x="9081" y="7055"/>
                  <a:pt x="9224" y="7041"/>
                  <a:pt x="9376" y="6945"/>
                </a:cubicBezTo>
              </a:path>
              <a:path w="944" h="2134">
                <a:moveTo>
                  <a:pt x="9252" y="6722"/>
                </a:moveTo>
                <a:cubicBezTo>
                  <a:pt x="9219" y="6920"/>
                  <a:pt x="9257" y="7071"/>
                  <a:pt x="9277" y="7268"/>
                </a:cubicBezTo>
                <a:cubicBezTo>
                  <a:pt x="9277" y="7293"/>
                  <a:pt x="9277" y="7317"/>
                  <a:pt x="9277" y="73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4760" y="2178000"/>
            <a:ext cx="179280" cy="81000"/>
          </a:xfrm>
          <a:custGeom>
            <a:avLst/>
            <a:gdLst/>
            <a:ahLst/>
            <a:rect l="l" t="t" r="r" b="b"/>
            <a:pathLst>
              <a:path w="497" h="225">
                <a:moveTo>
                  <a:pt x="10790" y="6102"/>
                </a:moveTo>
                <a:cubicBezTo>
                  <a:pt x="10885" y="6094"/>
                  <a:pt x="10972" y="6077"/>
                  <a:pt x="11063" y="6052"/>
                </a:cubicBezTo>
              </a:path>
              <a:path w="497" h="225">
                <a:moveTo>
                  <a:pt x="10939" y="6276"/>
                </a:moveTo>
                <a:cubicBezTo>
                  <a:pt x="11055" y="6229"/>
                  <a:pt x="11166" y="6187"/>
                  <a:pt x="11286" y="61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8800" y="1571760"/>
            <a:ext cx="714240" cy="1349280"/>
          </a:xfrm>
          <a:custGeom>
            <a:avLst/>
            <a:gdLst/>
            <a:ahLst/>
            <a:rect l="l" t="t" r="r" b="b"/>
            <a:pathLst>
              <a:path w="1985" h="3746">
                <a:moveTo>
                  <a:pt x="13667" y="5829"/>
                </a:moveTo>
                <a:cubicBezTo>
                  <a:pt x="13667" y="5702"/>
                  <a:pt x="13624" y="5594"/>
                  <a:pt x="13519" y="5507"/>
                </a:cubicBezTo>
                <a:cubicBezTo>
                  <a:pt x="13494" y="5499"/>
                  <a:pt x="13469" y="5490"/>
                  <a:pt x="13444" y="5482"/>
                </a:cubicBezTo>
                <a:cubicBezTo>
                  <a:pt x="13382" y="5548"/>
                  <a:pt x="13123" y="5900"/>
                  <a:pt x="13320" y="5978"/>
                </a:cubicBezTo>
                <a:cubicBezTo>
                  <a:pt x="13489" y="6045"/>
                  <a:pt x="13534" y="5766"/>
                  <a:pt x="13568" y="5680"/>
                </a:cubicBezTo>
                <a:cubicBezTo>
                  <a:pt x="13568" y="5664"/>
                  <a:pt x="13568" y="5647"/>
                  <a:pt x="13568" y="5631"/>
                </a:cubicBezTo>
                <a:cubicBezTo>
                  <a:pt x="13583" y="5886"/>
                  <a:pt x="13609" y="6120"/>
                  <a:pt x="13593" y="6375"/>
                </a:cubicBezTo>
              </a:path>
              <a:path w="1985" h="3746">
                <a:moveTo>
                  <a:pt x="13221" y="6598"/>
                </a:moveTo>
                <a:cubicBezTo>
                  <a:pt x="13221" y="6398"/>
                  <a:pt x="13219" y="6193"/>
                  <a:pt x="13146" y="6003"/>
                </a:cubicBezTo>
                <a:cubicBezTo>
                  <a:pt x="13097" y="5877"/>
                  <a:pt x="12981" y="5770"/>
                  <a:pt x="12973" y="5631"/>
                </a:cubicBezTo>
                <a:cubicBezTo>
                  <a:pt x="12968" y="5550"/>
                  <a:pt x="12958" y="5484"/>
                  <a:pt x="12948" y="5407"/>
                </a:cubicBezTo>
                <a:cubicBezTo>
                  <a:pt x="13247" y="5310"/>
                  <a:pt x="13523" y="5252"/>
                  <a:pt x="13841" y="5209"/>
                </a:cubicBezTo>
                <a:cubicBezTo>
                  <a:pt x="13979" y="5190"/>
                  <a:pt x="14124" y="5177"/>
                  <a:pt x="14263" y="5159"/>
                </a:cubicBezTo>
              </a:path>
              <a:path w="1985" h="3746">
                <a:moveTo>
                  <a:pt x="12427" y="5705"/>
                </a:moveTo>
                <a:cubicBezTo>
                  <a:pt x="12390" y="5838"/>
                  <a:pt x="12362" y="5969"/>
                  <a:pt x="12328" y="6102"/>
                </a:cubicBezTo>
                <a:cubicBezTo>
                  <a:pt x="12438" y="6060"/>
                  <a:pt x="12532" y="6015"/>
                  <a:pt x="12650" y="6003"/>
                </a:cubicBezTo>
              </a:path>
              <a:path w="1985" h="3746">
                <a:moveTo>
                  <a:pt x="12551" y="5606"/>
                </a:moveTo>
                <a:cubicBezTo>
                  <a:pt x="12587" y="5871"/>
                  <a:pt x="12606" y="6135"/>
                  <a:pt x="12626" y="6400"/>
                </a:cubicBezTo>
                <a:cubicBezTo>
                  <a:pt x="12626" y="6416"/>
                  <a:pt x="12626" y="6433"/>
                  <a:pt x="12626" y="6449"/>
                </a:cubicBezTo>
              </a:path>
              <a:path w="1985" h="3746">
                <a:moveTo>
                  <a:pt x="13221" y="4490"/>
                </a:moveTo>
                <a:cubicBezTo>
                  <a:pt x="13214" y="4525"/>
                  <a:pt x="13196" y="4743"/>
                  <a:pt x="13196" y="4564"/>
                </a:cubicBezTo>
                <a:cubicBezTo>
                  <a:pt x="13223" y="4488"/>
                  <a:pt x="13382" y="4175"/>
                  <a:pt x="13370" y="4539"/>
                </a:cubicBezTo>
                <a:cubicBezTo>
                  <a:pt x="13363" y="4762"/>
                  <a:pt x="13273" y="4973"/>
                  <a:pt x="13072" y="5035"/>
                </a:cubicBezTo>
                <a:cubicBezTo>
                  <a:pt x="13048" y="4884"/>
                  <a:pt x="13076" y="4765"/>
                  <a:pt x="13271" y="4837"/>
                </a:cubicBezTo>
                <a:cubicBezTo>
                  <a:pt x="13390" y="4881"/>
                  <a:pt x="13415" y="4937"/>
                  <a:pt x="13469" y="5035"/>
                </a:cubicBezTo>
              </a:path>
              <a:path w="1985" h="3746">
                <a:moveTo>
                  <a:pt x="13891" y="6548"/>
                </a:moveTo>
                <a:cubicBezTo>
                  <a:pt x="13735" y="6570"/>
                  <a:pt x="13599" y="6618"/>
                  <a:pt x="13519" y="6772"/>
                </a:cubicBezTo>
                <a:cubicBezTo>
                  <a:pt x="13519" y="6788"/>
                  <a:pt x="13519" y="6805"/>
                  <a:pt x="13519" y="6821"/>
                </a:cubicBezTo>
                <a:cubicBezTo>
                  <a:pt x="13589" y="6868"/>
                  <a:pt x="13857" y="6930"/>
                  <a:pt x="13841" y="7020"/>
                </a:cubicBezTo>
                <a:cubicBezTo>
                  <a:pt x="13792" y="7116"/>
                  <a:pt x="13779" y="7149"/>
                  <a:pt x="13692" y="7144"/>
                </a:cubicBezTo>
                <a:cubicBezTo>
                  <a:pt x="13632" y="7004"/>
                  <a:pt x="13737" y="6886"/>
                  <a:pt x="13791" y="6747"/>
                </a:cubicBezTo>
                <a:cubicBezTo>
                  <a:pt x="13813" y="6680"/>
                  <a:pt x="13825" y="6662"/>
                  <a:pt x="13791" y="6623"/>
                </a:cubicBezTo>
              </a:path>
              <a:path w="1985" h="3746">
                <a:moveTo>
                  <a:pt x="13196" y="7020"/>
                </a:moveTo>
                <a:cubicBezTo>
                  <a:pt x="13264" y="7010"/>
                  <a:pt x="13326" y="7000"/>
                  <a:pt x="13395" y="6995"/>
                </a:cubicBezTo>
              </a:path>
              <a:path w="1985" h="3746">
                <a:moveTo>
                  <a:pt x="13196" y="7441"/>
                </a:moveTo>
                <a:cubicBezTo>
                  <a:pt x="13555" y="7344"/>
                  <a:pt x="13902" y="7300"/>
                  <a:pt x="14263" y="7243"/>
                </a:cubicBezTo>
                <a:cubicBezTo>
                  <a:pt x="14279" y="7235"/>
                  <a:pt x="14296" y="7226"/>
                  <a:pt x="14312" y="7218"/>
                </a:cubicBezTo>
              </a:path>
              <a:path w="1985" h="3746">
                <a:moveTo>
                  <a:pt x="13891" y="7689"/>
                </a:moveTo>
                <a:cubicBezTo>
                  <a:pt x="13872" y="7632"/>
                  <a:pt x="13863" y="7625"/>
                  <a:pt x="13866" y="7590"/>
                </a:cubicBezTo>
                <a:cubicBezTo>
                  <a:pt x="13939" y="7591"/>
                  <a:pt x="13859" y="7898"/>
                  <a:pt x="13841" y="8062"/>
                </a:cubicBezTo>
                <a:cubicBezTo>
                  <a:pt x="13841" y="8078"/>
                  <a:pt x="13841" y="8095"/>
                  <a:pt x="13841" y="81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37160" y="1697040"/>
            <a:ext cx="820800" cy="544680"/>
          </a:xfrm>
          <a:custGeom>
            <a:avLst/>
            <a:gdLst/>
            <a:ahLst/>
            <a:rect l="l" t="t" r="r" b="b"/>
            <a:pathLst>
              <a:path w="2283" h="1514">
                <a:moveTo>
                  <a:pt x="15379" y="5655"/>
                </a:moveTo>
                <a:cubicBezTo>
                  <a:pt x="15471" y="5649"/>
                  <a:pt x="15560" y="5637"/>
                  <a:pt x="15652" y="5631"/>
                </a:cubicBezTo>
              </a:path>
              <a:path w="2283" h="1514">
                <a:moveTo>
                  <a:pt x="15503" y="5854"/>
                </a:moveTo>
                <a:cubicBezTo>
                  <a:pt x="15544" y="5829"/>
                  <a:pt x="15586" y="5804"/>
                  <a:pt x="15627" y="5779"/>
                </a:cubicBezTo>
              </a:path>
              <a:path w="2283" h="1514">
                <a:moveTo>
                  <a:pt x="16371" y="5184"/>
                </a:moveTo>
                <a:cubicBezTo>
                  <a:pt x="16404" y="5118"/>
                  <a:pt x="16429" y="5094"/>
                  <a:pt x="16495" y="5085"/>
                </a:cubicBezTo>
                <a:cubicBezTo>
                  <a:pt x="16803" y="5280"/>
                  <a:pt x="16766" y="5484"/>
                  <a:pt x="16570" y="5804"/>
                </a:cubicBezTo>
                <a:cubicBezTo>
                  <a:pt x="16530" y="5869"/>
                  <a:pt x="16201" y="6339"/>
                  <a:pt x="16148" y="6127"/>
                </a:cubicBezTo>
                <a:cubicBezTo>
                  <a:pt x="16310" y="5941"/>
                  <a:pt x="16436" y="5832"/>
                  <a:pt x="16694" y="5928"/>
                </a:cubicBezTo>
                <a:cubicBezTo>
                  <a:pt x="16808" y="5997"/>
                  <a:pt x="16844" y="6012"/>
                  <a:pt x="16867" y="6102"/>
                </a:cubicBezTo>
              </a:path>
              <a:path w="2283" h="1514">
                <a:moveTo>
                  <a:pt x="17239" y="4713"/>
                </a:moveTo>
                <a:cubicBezTo>
                  <a:pt x="17269" y="4845"/>
                  <a:pt x="17292" y="4977"/>
                  <a:pt x="17314" y="5110"/>
                </a:cubicBezTo>
              </a:path>
              <a:path w="2283" h="1514">
                <a:moveTo>
                  <a:pt x="17115" y="5407"/>
                </a:moveTo>
                <a:cubicBezTo>
                  <a:pt x="17300" y="5344"/>
                  <a:pt x="17469" y="5295"/>
                  <a:pt x="17661" y="5259"/>
                </a:cubicBezTo>
              </a:path>
              <a:path w="2283" h="1514">
                <a:moveTo>
                  <a:pt x="17289" y="5606"/>
                </a:moveTo>
                <a:cubicBezTo>
                  <a:pt x="17278" y="5697"/>
                  <a:pt x="17257" y="5789"/>
                  <a:pt x="17239" y="5879"/>
                </a:cubicBezTo>
                <a:cubicBezTo>
                  <a:pt x="17376" y="5913"/>
                  <a:pt x="17428" y="5893"/>
                  <a:pt x="17562" y="5854"/>
                </a:cubicBezTo>
              </a:path>
              <a:path w="2283" h="1514">
                <a:moveTo>
                  <a:pt x="17587" y="5482"/>
                </a:moveTo>
                <a:cubicBezTo>
                  <a:pt x="17553" y="5703"/>
                  <a:pt x="17562" y="5926"/>
                  <a:pt x="17562" y="6152"/>
                </a:cubicBezTo>
                <a:cubicBezTo>
                  <a:pt x="17562" y="6177"/>
                  <a:pt x="17562" y="6201"/>
                  <a:pt x="17562" y="62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41720" y="3902040"/>
            <a:ext cx="63360" cy="125280"/>
          </a:xfrm>
          <a:custGeom>
            <a:avLst/>
            <a:gdLst/>
            <a:ahLst/>
            <a:rect l="l" t="t" r="r" b="b"/>
            <a:pathLst>
              <a:path w="175" h="348">
                <a:moveTo>
                  <a:pt x="6226" y="10840"/>
                </a:moveTo>
                <a:cubicBezTo>
                  <a:pt x="6297" y="10919"/>
                  <a:pt x="6352" y="10987"/>
                  <a:pt x="6375" y="11088"/>
                </a:cubicBezTo>
              </a:path>
              <a:path w="175" h="348">
                <a:moveTo>
                  <a:pt x="6400" y="10889"/>
                </a:moveTo>
                <a:cubicBezTo>
                  <a:pt x="6347" y="10994"/>
                  <a:pt x="6301" y="11097"/>
                  <a:pt x="6226" y="111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13000" y="3295800"/>
            <a:ext cx="54000" cy="4428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6548" y="9153"/>
                </a:moveTo>
                <a:cubicBezTo>
                  <a:pt x="6548" y="9212"/>
                  <a:pt x="6545" y="9238"/>
                  <a:pt x="6524" y="9277"/>
                </a:cubicBezTo>
              </a:path>
              <a:path w="150" h="125">
                <a:moveTo>
                  <a:pt x="6424" y="9252"/>
                </a:moveTo>
                <a:cubicBezTo>
                  <a:pt x="6472" y="9231"/>
                  <a:pt x="6524" y="9223"/>
                  <a:pt x="6573" y="92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11200" y="3902040"/>
            <a:ext cx="1177920" cy="1285920"/>
          </a:xfrm>
          <a:custGeom>
            <a:avLst/>
            <a:gdLst/>
            <a:ahLst/>
            <a:rect l="l" t="t" r="r" b="b"/>
            <a:pathLst>
              <a:path w="3275" h="3573">
                <a:moveTo>
                  <a:pt x="4018" y="10840"/>
                </a:moveTo>
                <a:cubicBezTo>
                  <a:pt x="4114" y="10903"/>
                  <a:pt x="4166" y="10936"/>
                  <a:pt x="4217" y="11038"/>
                </a:cubicBezTo>
              </a:path>
              <a:path w="3275" h="3573">
                <a:moveTo>
                  <a:pt x="4217" y="10864"/>
                </a:moveTo>
                <a:cubicBezTo>
                  <a:pt x="4110" y="10947"/>
                  <a:pt x="4067" y="11035"/>
                  <a:pt x="4018" y="11162"/>
                </a:cubicBezTo>
              </a:path>
              <a:path w="3275" h="3573">
                <a:moveTo>
                  <a:pt x="4142" y="12278"/>
                </a:moveTo>
                <a:cubicBezTo>
                  <a:pt x="4213" y="12232"/>
                  <a:pt x="4232" y="12216"/>
                  <a:pt x="4291" y="12229"/>
                </a:cubicBezTo>
                <a:cubicBezTo>
                  <a:pt x="4282" y="12379"/>
                  <a:pt x="4280" y="12477"/>
                  <a:pt x="4167" y="12576"/>
                </a:cubicBezTo>
                <a:cubicBezTo>
                  <a:pt x="4317" y="12557"/>
                  <a:pt x="4508" y="12628"/>
                  <a:pt x="4316" y="12824"/>
                </a:cubicBezTo>
                <a:cubicBezTo>
                  <a:pt x="4195" y="12948"/>
                  <a:pt x="4047" y="12913"/>
                  <a:pt x="3919" y="12874"/>
                </a:cubicBezTo>
              </a:path>
              <a:path w="3275" h="3573">
                <a:moveTo>
                  <a:pt x="4514" y="12353"/>
                </a:moveTo>
                <a:cubicBezTo>
                  <a:pt x="4623" y="12361"/>
                  <a:pt x="4838" y="12381"/>
                  <a:pt x="4862" y="12526"/>
                </a:cubicBezTo>
                <a:cubicBezTo>
                  <a:pt x="4891" y="12705"/>
                  <a:pt x="4700" y="12942"/>
                  <a:pt x="4514" y="12898"/>
                </a:cubicBezTo>
                <a:cubicBezTo>
                  <a:pt x="4506" y="12882"/>
                  <a:pt x="4498" y="12865"/>
                  <a:pt x="4490" y="12849"/>
                </a:cubicBezTo>
                <a:cubicBezTo>
                  <a:pt x="4517" y="12712"/>
                  <a:pt x="4638" y="12679"/>
                  <a:pt x="4787" y="12725"/>
                </a:cubicBezTo>
                <a:cubicBezTo>
                  <a:pt x="4857" y="12770"/>
                  <a:pt x="4877" y="12782"/>
                  <a:pt x="4911" y="12824"/>
                </a:cubicBezTo>
              </a:path>
              <a:path w="3275" h="3573">
                <a:moveTo>
                  <a:pt x="3969" y="13345"/>
                </a:moveTo>
                <a:cubicBezTo>
                  <a:pt x="4194" y="13264"/>
                  <a:pt x="4450" y="13227"/>
                  <a:pt x="4688" y="13196"/>
                </a:cubicBezTo>
                <a:cubicBezTo>
                  <a:pt x="4721" y="13196"/>
                  <a:pt x="4754" y="13196"/>
                  <a:pt x="4787" y="13196"/>
                </a:cubicBezTo>
              </a:path>
              <a:path w="3275" h="3573">
                <a:moveTo>
                  <a:pt x="4564" y="13543"/>
                </a:moveTo>
                <a:cubicBezTo>
                  <a:pt x="4482" y="13573"/>
                  <a:pt x="4313" y="13576"/>
                  <a:pt x="4266" y="13667"/>
                </a:cubicBezTo>
                <a:cubicBezTo>
                  <a:pt x="4228" y="13742"/>
                  <a:pt x="4242" y="13835"/>
                  <a:pt x="4242" y="13915"/>
                </a:cubicBezTo>
                <a:cubicBezTo>
                  <a:pt x="4404" y="13791"/>
                  <a:pt x="4440" y="13717"/>
                  <a:pt x="4638" y="13717"/>
                </a:cubicBezTo>
                <a:cubicBezTo>
                  <a:pt x="4786" y="13900"/>
                  <a:pt x="4739" y="14115"/>
                  <a:pt x="4465" y="14213"/>
                </a:cubicBezTo>
                <a:cubicBezTo>
                  <a:pt x="4332" y="14213"/>
                  <a:pt x="4297" y="14217"/>
                  <a:pt x="4217" y="14188"/>
                </a:cubicBezTo>
              </a:path>
              <a:path w="3275" h="3573">
                <a:moveTo>
                  <a:pt x="5358" y="13122"/>
                </a:moveTo>
                <a:cubicBezTo>
                  <a:pt x="5546" y="13243"/>
                  <a:pt x="5637" y="13378"/>
                  <a:pt x="5755" y="13568"/>
                </a:cubicBezTo>
              </a:path>
              <a:path w="3275" h="3573">
                <a:moveTo>
                  <a:pt x="5755" y="13047"/>
                </a:moveTo>
                <a:cubicBezTo>
                  <a:pt x="5666" y="13231"/>
                  <a:pt x="5579" y="13414"/>
                  <a:pt x="5482" y="13593"/>
                </a:cubicBezTo>
              </a:path>
              <a:path w="3275" h="3573">
                <a:moveTo>
                  <a:pt x="6499" y="12229"/>
                </a:moveTo>
                <a:cubicBezTo>
                  <a:pt x="6472" y="12436"/>
                  <a:pt x="6474" y="12639"/>
                  <a:pt x="6474" y="12849"/>
                </a:cubicBezTo>
              </a:path>
              <a:path w="3275" h="3573">
                <a:moveTo>
                  <a:pt x="6970" y="12129"/>
                </a:moveTo>
                <a:cubicBezTo>
                  <a:pt x="6894" y="12194"/>
                  <a:pt x="6704" y="12251"/>
                  <a:pt x="6672" y="12328"/>
                </a:cubicBezTo>
                <a:cubicBezTo>
                  <a:pt x="6650" y="12382"/>
                  <a:pt x="6692" y="12491"/>
                  <a:pt x="6697" y="12551"/>
                </a:cubicBezTo>
                <a:cubicBezTo>
                  <a:pt x="6787" y="12496"/>
                  <a:pt x="6984" y="12365"/>
                  <a:pt x="7045" y="12551"/>
                </a:cubicBezTo>
                <a:cubicBezTo>
                  <a:pt x="7129" y="12809"/>
                  <a:pt x="6837" y="12833"/>
                  <a:pt x="6672" y="12849"/>
                </a:cubicBezTo>
              </a:path>
              <a:path w="3275" h="3573">
                <a:moveTo>
                  <a:pt x="6251" y="13196"/>
                </a:moveTo>
                <a:cubicBezTo>
                  <a:pt x="6466" y="13123"/>
                  <a:pt x="6718" y="13130"/>
                  <a:pt x="6945" y="13122"/>
                </a:cubicBezTo>
                <a:cubicBezTo>
                  <a:pt x="7094" y="13122"/>
                  <a:pt x="7110" y="13122"/>
                  <a:pt x="7193" y="13122"/>
                </a:cubicBezTo>
              </a:path>
              <a:path w="3275" h="3573">
                <a:moveTo>
                  <a:pt x="6598" y="13593"/>
                </a:moveTo>
                <a:cubicBezTo>
                  <a:pt x="6598" y="13476"/>
                  <a:pt x="6587" y="13725"/>
                  <a:pt x="6573" y="13841"/>
                </a:cubicBezTo>
                <a:cubicBezTo>
                  <a:pt x="6553" y="13999"/>
                  <a:pt x="6557" y="14027"/>
                  <a:pt x="6524" y="14114"/>
                </a:cubicBezTo>
                <a:cubicBezTo>
                  <a:pt x="6635" y="14047"/>
                  <a:pt x="6717" y="13989"/>
                  <a:pt x="6846" y="13965"/>
                </a:cubicBezTo>
              </a:path>
              <a:path w="3275" h="3573">
                <a:moveTo>
                  <a:pt x="6821" y="13444"/>
                </a:moveTo>
                <a:cubicBezTo>
                  <a:pt x="6830" y="13727"/>
                  <a:pt x="6866" y="14005"/>
                  <a:pt x="6871" y="14288"/>
                </a:cubicBezTo>
                <a:cubicBezTo>
                  <a:pt x="6871" y="14329"/>
                  <a:pt x="6871" y="14371"/>
                  <a:pt x="6871" y="144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46240" y="4537080"/>
            <a:ext cx="884520" cy="579600"/>
          </a:xfrm>
          <a:custGeom>
            <a:avLst/>
            <a:gdLst/>
            <a:ahLst/>
            <a:rect l="l" t="t" r="r" b="b"/>
            <a:pathLst>
              <a:path w="2456" h="1613">
                <a:moveTo>
                  <a:pt x="8186" y="13196"/>
                </a:moveTo>
                <a:cubicBezTo>
                  <a:pt x="8283" y="13232"/>
                  <a:pt x="8380" y="13250"/>
                  <a:pt x="8483" y="13271"/>
                </a:cubicBezTo>
              </a:path>
              <a:path w="2456" h="1613">
                <a:moveTo>
                  <a:pt x="8235" y="13519"/>
                </a:moveTo>
                <a:cubicBezTo>
                  <a:pt x="8293" y="13519"/>
                  <a:pt x="8351" y="13519"/>
                  <a:pt x="8409" y="13519"/>
                </a:cubicBezTo>
              </a:path>
              <a:path w="2456" h="1613">
                <a:moveTo>
                  <a:pt x="9153" y="12874"/>
                </a:moveTo>
                <a:cubicBezTo>
                  <a:pt x="8999" y="13101"/>
                  <a:pt x="9420" y="12964"/>
                  <a:pt x="9500" y="12948"/>
                </a:cubicBezTo>
              </a:path>
              <a:path w="2456" h="1613">
                <a:moveTo>
                  <a:pt x="9649" y="12601"/>
                </a:moveTo>
                <a:cubicBezTo>
                  <a:pt x="9506" y="12842"/>
                  <a:pt x="9367" y="13096"/>
                  <a:pt x="9203" y="13320"/>
                </a:cubicBezTo>
              </a:path>
              <a:path w="2456" h="1613">
                <a:moveTo>
                  <a:pt x="10071" y="12650"/>
                </a:moveTo>
                <a:cubicBezTo>
                  <a:pt x="9796" y="12729"/>
                  <a:pt x="9828" y="12767"/>
                  <a:pt x="9897" y="13022"/>
                </a:cubicBezTo>
                <a:cubicBezTo>
                  <a:pt x="9921" y="13141"/>
                  <a:pt x="9932" y="13178"/>
                  <a:pt x="9872" y="13246"/>
                </a:cubicBezTo>
                <a:cubicBezTo>
                  <a:pt x="9621" y="13246"/>
                  <a:pt x="10033" y="12888"/>
                  <a:pt x="10096" y="12824"/>
                </a:cubicBezTo>
                <a:cubicBezTo>
                  <a:pt x="10121" y="12799"/>
                  <a:pt x="10145" y="12775"/>
                  <a:pt x="10170" y="12750"/>
                </a:cubicBezTo>
              </a:path>
              <a:path w="2456" h="1613">
                <a:moveTo>
                  <a:pt x="10517" y="12675"/>
                </a:moveTo>
                <a:cubicBezTo>
                  <a:pt x="10390" y="12875"/>
                  <a:pt x="10328" y="12991"/>
                  <a:pt x="10294" y="13221"/>
                </a:cubicBezTo>
                <a:cubicBezTo>
                  <a:pt x="10473" y="13253"/>
                  <a:pt x="10771" y="13092"/>
                  <a:pt x="10641" y="12824"/>
                </a:cubicBezTo>
                <a:cubicBezTo>
                  <a:pt x="10600" y="12807"/>
                  <a:pt x="10558" y="12791"/>
                  <a:pt x="10517" y="12774"/>
                </a:cubicBezTo>
              </a:path>
              <a:path w="2456" h="1613">
                <a:moveTo>
                  <a:pt x="8781" y="13370"/>
                </a:moveTo>
                <a:cubicBezTo>
                  <a:pt x="9069" y="13403"/>
                  <a:pt x="9357" y="13500"/>
                  <a:pt x="9649" y="13519"/>
                </a:cubicBezTo>
                <a:cubicBezTo>
                  <a:pt x="9978" y="13541"/>
                  <a:pt x="10293" y="13520"/>
                  <a:pt x="10616" y="13593"/>
                </a:cubicBezTo>
              </a:path>
              <a:path w="2456" h="1613">
                <a:moveTo>
                  <a:pt x="9203" y="13643"/>
                </a:moveTo>
                <a:lnTo>
                  <a:pt x="9203" y="13643"/>
                </a:lnTo>
              </a:path>
              <a:path w="2456" h="1613">
                <a:moveTo>
                  <a:pt x="9302" y="13692"/>
                </a:moveTo>
                <a:cubicBezTo>
                  <a:pt x="9383" y="13652"/>
                  <a:pt x="9361" y="13622"/>
                  <a:pt x="9451" y="13618"/>
                </a:cubicBezTo>
                <a:cubicBezTo>
                  <a:pt x="9467" y="13626"/>
                  <a:pt x="9484" y="13635"/>
                  <a:pt x="9500" y="13643"/>
                </a:cubicBezTo>
                <a:cubicBezTo>
                  <a:pt x="9524" y="13845"/>
                  <a:pt x="9475" y="14031"/>
                  <a:pt x="9252" y="14114"/>
                </a:cubicBezTo>
                <a:cubicBezTo>
                  <a:pt x="9106" y="14168"/>
                  <a:pt x="8975" y="14146"/>
                  <a:pt x="8905" y="14064"/>
                </a:cubicBezTo>
                <a:cubicBezTo>
                  <a:pt x="8991" y="13881"/>
                  <a:pt x="9142" y="13816"/>
                  <a:pt x="9351" y="13940"/>
                </a:cubicBezTo>
                <a:cubicBezTo>
                  <a:pt x="9480" y="14017"/>
                  <a:pt x="9478" y="14097"/>
                  <a:pt x="9525" y="14213"/>
                </a:cubicBezTo>
              </a:path>
              <a:path w="2456" h="1613">
                <a:moveTo>
                  <a:pt x="10120" y="13866"/>
                </a:moveTo>
                <a:cubicBezTo>
                  <a:pt x="9952" y="13816"/>
                  <a:pt x="9748" y="13837"/>
                  <a:pt x="9748" y="14089"/>
                </a:cubicBezTo>
                <a:cubicBezTo>
                  <a:pt x="9765" y="14122"/>
                  <a:pt x="9781" y="14155"/>
                  <a:pt x="9798" y="14188"/>
                </a:cubicBezTo>
                <a:cubicBezTo>
                  <a:pt x="9966" y="14180"/>
                  <a:pt x="10261" y="14099"/>
                  <a:pt x="10145" y="13841"/>
                </a:cubicBezTo>
                <a:cubicBezTo>
                  <a:pt x="10120" y="13824"/>
                  <a:pt x="10096" y="13808"/>
                  <a:pt x="10071" y="137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24240" y="4303800"/>
            <a:ext cx="1384560" cy="1536480"/>
          </a:xfrm>
          <a:custGeom>
            <a:avLst/>
            <a:gdLst/>
            <a:ahLst/>
            <a:rect l="l" t="t" r="r" b="b"/>
            <a:pathLst>
              <a:path w="3845" h="4267">
                <a:moveTo>
                  <a:pt x="11757" y="13494"/>
                </a:moveTo>
                <a:cubicBezTo>
                  <a:pt x="11850" y="13494"/>
                  <a:pt x="11942" y="13475"/>
                  <a:pt x="12030" y="13444"/>
                </a:cubicBezTo>
                <a:cubicBezTo>
                  <a:pt x="12047" y="13436"/>
                  <a:pt x="12063" y="13427"/>
                  <a:pt x="12080" y="13419"/>
                </a:cubicBezTo>
              </a:path>
              <a:path w="3845" h="4267">
                <a:moveTo>
                  <a:pt x="11733" y="13742"/>
                </a:moveTo>
                <a:cubicBezTo>
                  <a:pt x="11836" y="13742"/>
                  <a:pt x="11929" y="13727"/>
                  <a:pt x="12030" y="13717"/>
                </a:cubicBezTo>
              </a:path>
              <a:path w="3845" h="4267">
                <a:moveTo>
                  <a:pt x="14015" y="13146"/>
                </a:moveTo>
                <a:cubicBezTo>
                  <a:pt x="14000" y="13265"/>
                  <a:pt x="13959" y="13378"/>
                  <a:pt x="13940" y="13494"/>
                </a:cubicBezTo>
                <a:cubicBezTo>
                  <a:pt x="14102" y="13477"/>
                  <a:pt x="14211" y="13436"/>
                  <a:pt x="14362" y="13370"/>
                </a:cubicBezTo>
              </a:path>
              <a:path w="3845" h="4267">
                <a:moveTo>
                  <a:pt x="14362" y="12973"/>
                </a:moveTo>
                <a:cubicBezTo>
                  <a:pt x="14308" y="13246"/>
                  <a:pt x="14249" y="13503"/>
                  <a:pt x="14163" y="13767"/>
                </a:cubicBezTo>
              </a:path>
              <a:path w="3845" h="4267">
                <a:moveTo>
                  <a:pt x="14759" y="13047"/>
                </a:moveTo>
                <a:cubicBezTo>
                  <a:pt x="14548" y="13222"/>
                  <a:pt x="14601" y="13245"/>
                  <a:pt x="14660" y="13494"/>
                </a:cubicBezTo>
                <a:cubicBezTo>
                  <a:pt x="14681" y="13627"/>
                  <a:pt x="14693" y="13661"/>
                  <a:pt x="14660" y="13742"/>
                </a:cubicBezTo>
                <a:cubicBezTo>
                  <a:pt x="14660" y="13485"/>
                  <a:pt x="14716" y="13362"/>
                  <a:pt x="14858" y="13146"/>
                </a:cubicBezTo>
                <a:cubicBezTo>
                  <a:pt x="14882" y="13098"/>
                  <a:pt x="14891" y="13084"/>
                  <a:pt x="14883" y="13047"/>
                </a:cubicBezTo>
              </a:path>
              <a:path w="3845" h="4267">
                <a:moveTo>
                  <a:pt x="15131" y="12998"/>
                </a:moveTo>
                <a:cubicBezTo>
                  <a:pt x="15055" y="13226"/>
                  <a:pt x="14997" y="13407"/>
                  <a:pt x="15007" y="13643"/>
                </a:cubicBezTo>
                <a:cubicBezTo>
                  <a:pt x="15151" y="13579"/>
                  <a:pt x="15530" y="13289"/>
                  <a:pt x="15280" y="13097"/>
                </a:cubicBezTo>
                <a:cubicBezTo>
                  <a:pt x="15214" y="13089"/>
                  <a:pt x="15147" y="13080"/>
                  <a:pt x="15081" y="13072"/>
                </a:cubicBezTo>
              </a:path>
              <a:path w="3845" h="4267">
                <a:moveTo>
                  <a:pt x="13593" y="14139"/>
                </a:moveTo>
                <a:cubicBezTo>
                  <a:pt x="13605" y="13940"/>
                  <a:pt x="13630" y="13746"/>
                  <a:pt x="13618" y="13543"/>
                </a:cubicBezTo>
                <a:cubicBezTo>
                  <a:pt x="13603" y="13288"/>
                  <a:pt x="13598" y="13053"/>
                  <a:pt x="13618" y="12799"/>
                </a:cubicBezTo>
                <a:cubicBezTo>
                  <a:pt x="14064" y="12898"/>
                  <a:pt x="14499" y="12852"/>
                  <a:pt x="14957" y="12849"/>
                </a:cubicBezTo>
                <a:cubicBezTo>
                  <a:pt x="15288" y="12849"/>
                  <a:pt x="15370" y="12849"/>
                  <a:pt x="15577" y="12849"/>
                </a:cubicBezTo>
              </a:path>
              <a:path w="3845" h="4267">
                <a:moveTo>
                  <a:pt x="12700" y="13146"/>
                </a:moveTo>
                <a:cubicBezTo>
                  <a:pt x="12821" y="12966"/>
                  <a:pt x="12942" y="13306"/>
                  <a:pt x="12898" y="13444"/>
                </a:cubicBezTo>
                <a:cubicBezTo>
                  <a:pt x="12826" y="13668"/>
                  <a:pt x="12678" y="13684"/>
                  <a:pt x="12502" y="13692"/>
                </a:cubicBezTo>
                <a:cubicBezTo>
                  <a:pt x="12548" y="13506"/>
                  <a:pt x="12686" y="13390"/>
                  <a:pt x="12874" y="13568"/>
                </a:cubicBezTo>
                <a:cubicBezTo>
                  <a:pt x="12899" y="13609"/>
                  <a:pt x="12923" y="13651"/>
                  <a:pt x="12948" y="13692"/>
                </a:cubicBezTo>
              </a:path>
              <a:path w="3845" h="4267">
                <a:moveTo>
                  <a:pt x="13171" y="13171"/>
                </a:moveTo>
                <a:cubicBezTo>
                  <a:pt x="13110" y="13389"/>
                  <a:pt x="13083" y="13454"/>
                  <a:pt x="13146" y="13667"/>
                </a:cubicBezTo>
                <a:cubicBezTo>
                  <a:pt x="13286" y="13589"/>
                  <a:pt x="13523" y="13339"/>
                  <a:pt x="13295" y="13171"/>
                </a:cubicBezTo>
                <a:cubicBezTo>
                  <a:pt x="13245" y="13163"/>
                  <a:pt x="13196" y="13154"/>
                  <a:pt x="13146" y="13146"/>
                </a:cubicBezTo>
              </a:path>
              <a:path w="3845" h="4267">
                <a:moveTo>
                  <a:pt x="14734" y="12154"/>
                </a:moveTo>
                <a:cubicBezTo>
                  <a:pt x="14734" y="12187"/>
                  <a:pt x="14734" y="12221"/>
                  <a:pt x="14734" y="12254"/>
                </a:cubicBezTo>
                <a:cubicBezTo>
                  <a:pt x="14691" y="12295"/>
                  <a:pt x="14841" y="12144"/>
                  <a:pt x="14932" y="12154"/>
                </a:cubicBezTo>
                <a:cubicBezTo>
                  <a:pt x="15222" y="12185"/>
                  <a:pt x="14973" y="12575"/>
                  <a:pt x="14858" y="12650"/>
                </a:cubicBezTo>
                <a:cubicBezTo>
                  <a:pt x="14768" y="12708"/>
                  <a:pt x="14646" y="12712"/>
                  <a:pt x="14585" y="12675"/>
                </a:cubicBezTo>
                <a:cubicBezTo>
                  <a:pt x="14700" y="12568"/>
                  <a:pt x="14827" y="12403"/>
                  <a:pt x="14957" y="12601"/>
                </a:cubicBezTo>
                <a:cubicBezTo>
                  <a:pt x="14974" y="12642"/>
                  <a:pt x="14990" y="12684"/>
                  <a:pt x="15007" y="12725"/>
                </a:cubicBezTo>
              </a:path>
              <a:path w="3845" h="4267">
                <a:moveTo>
                  <a:pt x="14039" y="13891"/>
                </a:moveTo>
                <a:cubicBezTo>
                  <a:pt x="14030" y="13975"/>
                  <a:pt x="14009" y="14055"/>
                  <a:pt x="13990" y="14139"/>
                </a:cubicBezTo>
                <a:cubicBezTo>
                  <a:pt x="14159" y="14103"/>
                  <a:pt x="14242" y="14076"/>
                  <a:pt x="14387" y="13990"/>
                </a:cubicBezTo>
              </a:path>
              <a:path w="3845" h="4267">
                <a:moveTo>
                  <a:pt x="14337" y="13791"/>
                </a:moveTo>
                <a:cubicBezTo>
                  <a:pt x="14279" y="13980"/>
                  <a:pt x="13999" y="14421"/>
                  <a:pt x="14188" y="14362"/>
                </a:cubicBezTo>
                <a:cubicBezTo>
                  <a:pt x="14205" y="14337"/>
                  <a:pt x="14221" y="14313"/>
                  <a:pt x="14238" y="14288"/>
                </a:cubicBezTo>
              </a:path>
              <a:path w="3845" h="4267">
                <a:moveTo>
                  <a:pt x="14635" y="13891"/>
                </a:moveTo>
                <a:cubicBezTo>
                  <a:pt x="14555" y="14034"/>
                  <a:pt x="14542" y="14074"/>
                  <a:pt x="14560" y="14238"/>
                </a:cubicBezTo>
                <a:cubicBezTo>
                  <a:pt x="14634" y="14209"/>
                  <a:pt x="14853" y="14027"/>
                  <a:pt x="14709" y="13915"/>
                </a:cubicBezTo>
                <a:cubicBezTo>
                  <a:pt x="14676" y="13915"/>
                  <a:pt x="14643" y="13915"/>
                  <a:pt x="14610" y="13915"/>
                </a:cubicBezTo>
              </a:path>
              <a:path w="3845" h="4267">
                <a:moveTo>
                  <a:pt x="13816" y="14511"/>
                </a:moveTo>
                <a:cubicBezTo>
                  <a:pt x="14146" y="14428"/>
                  <a:pt x="14472" y="14362"/>
                  <a:pt x="14808" y="14312"/>
                </a:cubicBezTo>
              </a:path>
              <a:path w="3845" h="4267">
                <a:moveTo>
                  <a:pt x="14684" y="14387"/>
                </a:moveTo>
                <a:cubicBezTo>
                  <a:pt x="14579" y="14526"/>
                  <a:pt x="14383" y="14672"/>
                  <a:pt x="14536" y="14808"/>
                </a:cubicBezTo>
                <a:cubicBezTo>
                  <a:pt x="14661" y="14919"/>
                  <a:pt x="14655" y="14893"/>
                  <a:pt x="14585" y="15032"/>
                </a:cubicBezTo>
                <a:cubicBezTo>
                  <a:pt x="14569" y="15040"/>
                  <a:pt x="14552" y="15048"/>
                  <a:pt x="14536" y="15056"/>
                </a:cubicBezTo>
                <a:cubicBezTo>
                  <a:pt x="14578" y="14833"/>
                  <a:pt x="14691" y="14711"/>
                  <a:pt x="14833" y="14536"/>
                </a:cubicBezTo>
              </a:path>
              <a:path w="3845" h="4267">
                <a:moveTo>
                  <a:pt x="15056" y="14461"/>
                </a:moveTo>
                <a:cubicBezTo>
                  <a:pt x="14963" y="14609"/>
                  <a:pt x="14894" y="14683"/>
                  <a:pt x="14908" y="14858"/>
                </a:cubicBezTo>
                <a:cubicBezTo>
                  <a:pt x="15024" y="14800"/>
                  <a:pt x="15285" y="14643"/>
                  <a:pt x="15106" y="14486"/>
                </a:cubicBezTo>
                <a:cubicBezTo>
                  <a:pt x="15073" y="14478"/>
                  <a:pt x="15040" y="14469"/>
                  <a:pt x="15007" y="14461"/>
                </a:cubicBezTo>
              </a:path>
              <a:path w="3845" h="4267">
                <a:moveTo>
                  <a:pt x="15354" y="12105"/>
                </a:moveTo>
                <a:cubicBezTo>
                  <a:pt x="15292" y="12212"/>
                  <a:pt x="15245" y="12340"/>
                  <a:pt x="15180" y="12452"/>
                </a:cubicBezTo>
                <a:cubicBezTo>
                  <a:pt x="15155" y="12496"/>
                  <a:pt x="15428" y="12390"/>
                  <a:pt x="15503" y="12378"/>
                </a:cubicBezTo>
              </a:path>
              <a:path w="3845" h="4267">
                <a:moveTo>
                  <a:pt x="15553" y="11956"/>
                </a:moveTo>
                <a:cubicBezTo>
                  <a:pt x="15463" y="12201"/>
                  <a:pt x="15453" y="12447"/>
                  <a:pt x="15404" y="12700"/>
                </a:cubicBezTo>
                <a:cubicBezTo>
                  <a:pt x="15396" y="12717"/>
                  <a:pt x="15387" y="12733"/>
                  <a:pt x="15379" y="12750"/>
                </a:cubicBezTo>
              </a:path>
              <a:path w="3845" h="4267">
                <a:moveTo>
                  <a:pt x="14734" y="15007"/>
                </a:moveTo>
                <a:cubicBezTo>
                  <a:pt x="14568" y="15156"/>
                  <a:pt x="14439" y="15188"/>
                  <a:pt x="14610" y="15354"/>
                </a:cubicBezTo>
                <a:cubicBezTo>
                  <a:pt x="14705" y="15449"/>
                  <a:pt x="14738" y="15477"/>
                  <a:pt x="14709" y="15577"/>
                </a:cubicBezTo>
                <a:cubicBezTo>
                  <a:pt x="14693" y="15594"/>
                  <a:pt x="14676" y="15610"/>
                  <a:pt x="14660" y="15627"/>
                </a:cubicBezTo>
                <a:cubicBezTo>
                  <a:pt x="14620" y="15447"/>
                  <a:pt x="14741" y="15294"/>
                  <a:pt x="14833" y="15131"/>
                </a:cubicBezTo>
              </a:path>
              <a:path w="3845" h="4267">
                <a:moveTo>
                  <a:pt x="15106" y="15106"/>
                </a:moveTo>
                <a:cubicBezTo>
                  <a:pt x="15044" y="15286"/>
                  <a:pt x="14997" y="15359"/>
                  <a:pt x="15056" y="15528"/>
                </a:cubicBezTo>
                <a:cubicBezTo>
                  <a:pt x="15227" y="15414"/>
                  <a:pt x="15207" y="15373"/>
                  <a:pt x="15230" y="15156"/>
                </a:cubicBezTo>
              </a:path>
              <a:path w="3845" h="4267">
                <a:moveTo>
                  <a:pt x="14337" y="15900"/>
                </a:moveTo>
                <a:cubicBezTo>
                  <a:pt x="14635" y="15820"/>
                  <a:pt x="14927" y="15754"/>
                  <a:pt x="15230" y="15701"/>
                </a:cubicBezTo>
              </a:path>
              <a:path w="3845" h="4267">
                <a:moveTo>
                  <a:pt x="15081" y="15949"/>
                </a:moveTo>
                <a:cubicBezTo>
                  <a:pt x="15041" y="16047"/>
                  <a:pt x="15017" y="16116"/>
                  <a:pt x="15007" y="16222"/>
                </a:cubicBezTo>
                <a:cubicBezTo>
                  <a:pt x="15217" y="16062"/>
                  <a:pt x="15279" y="15938"/>
                  <a:pt x="15280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48200" y="4545000"/>
            <a:ext cx="733680" cy="357120"/>
          </a:xfrm>
          <a:custGeom>
            <a:avLst/>
            <a:gdLst/>
            <a:ahLst/>
            <a:rect l="l" t="t" r="r" b="b"/>
            <a:pathLst>
              <a:path w="2035" h="993">
                <a:moveTo>
                  <a:pt x="16247" y="13146"/>
                </a:moveTo>
                <a:cubicBezTo>
                  <a:pt x="16375" y="13135"/>
                  <a:pt x="16496" y="13108"/>
                  <a:pt x="16619" y="13072"/>
                </a:cubicBezTo>
              </a:path>
              <a:path w="2035" h="993">
                <a:moveTo>
                  <a:pt x="16321" y="13395"/>
                </a:moveTo>
                <a:cubicBezTo>
                  <a:pt x="16451" y="13343"/>
                  <a:pt x="16498" y="13326"/>
                  <a:pt x="16594" y="13320"/>
                </a:cubicBezTo>
              </a:path>
              <a:path w="2035" h="993">
                <a:moveTo>
                  <a:pt x="17438" y="12923"/>
                </a:moveTo>
                <a:cubicBezTo>
                  <a:pt x="17461" y="12947"/>
                  <a:pt x="17519" y="12917"/>
                  <a:pt x="17587" y="12898"/>
                </a:cubicBezTo>
                <a:cubicBezTo>
                  <a:pt x="17732" y="13141"/>
                  <a:pt x="17700" y="13437"/>
                  <a:pt x="17388" y="13593"/>
                </a:cubicBezTo>
                <a:cubicBezTo>
                  <a:pt x="17338" y="13593"/>
                  <a:pt x="17289" y="13593"/>
                  <a:pt x="17239" y="13593"/>
                </a:cubicBezTo>
                <a:cubicBezTo>
                  <a:pt x="17252" y="13407"/>
                  <a:pt x="17376" y="13229"/>
                  <a:pt x="17611" y="13320"/>
                </a:cubicBezTo>
                <a:cubicBezTo>
                  <a:pt x="17685" y="13394"/>
                  <a:pt x="17710" y="13418"/>
                  <a:pt x="17711" y="13494"/>
                </a:cubicBezTo>
              </a:path>
              <a:path w="2035" h="993">
                <a:moveTo>
                  <a:pt x="17983" y="12898"/>
                </a:moveTo>
                <a:cubicBezTo>
                  <a:pt x="18004" y="12991"/>
                  <a:pt x="18010" y="13032"/>
                  <a:pt x="17983" y="13122"/>
                </a:cubicBezTo>
                <a:cubicBezTo>
                  <a:pt x="18126" y="13098"/>
                  <a:pt x="18171" y="13092"/>
                  <a:pt x="18256" y="13047"/>
                </a:cubicBezTo>
              </a:path>
              <a:path w="2035" h="993">
                <a:moveTo>
                  <a:pt x="18281" y="12626"/>
                </a:moveTo>
                <a:cubicBezTo>
                  <a:pt x="18221" y="12894"/>
                  <a:pt x="18219" y="13171"/>
                  <a:pt x="18182" y="13444"/>
                </a:cubicBezTo>
                <a:cubicBezTo>
                  <a:pt x="18162" y="13543"/>
                  <a:pt x="18154" y="13559"/>
                  <a:pt x="18157" y="136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57200" y="5295960"/>
            <a:ext cx="3706920" cy="1258920"/>
          </a:xfrm>
          <a:custGeom>
            <a:avLst/>
            <a:gdLst/>
            <a:ahLst/>
            <a:rect l="l" t="t" r="r" b="b"/>
            <a:pathLst>
              <a:path w="10295" h="3499">
                <a:moveTo>
                  <a:pt x="4192" y="15652"/>
                </a:moveTo>
                <a:cubicBezTo>
                  <a:pt x="4281" y="15593"/>
                  <a:pt x="4519" y="15438"/>
                  <a:pt x="4564" y="15652"/>
                </a:cubicBezTo>
                <a:cubicBezTo>
                  <a:pt x="4593" y="15790"/>
                  <a:pt x="4505" y="15860"/>
                  <a:pt x="4415" y="15900"/>
                </a:cubicBezTo>
                <a:cubicBezTo>
                  <a:pt x="4480" y="15770"/>
                  <a:pt x="4592" y="15915"/>
                  <a:pt x="4539" y="16049"/>
                </a:cubicBezTo>
                <a:cubicBezTo>
                  <a:pt x="4464" y="16240"/>
                  <a:pt x="4204" y="16252"/>
                  <a:pt x="4093" y="16098"/>
                </a:cubicBezTo>
                <a:cubicBezTo>
                  <a:pt x="4085" y="16065"/>
                  <a:pt x="4076" y="16032"/>
                  <a:pt x="4068" y="15999"/>
                </a:cubicBezTo>
              </a:path>
              <a:path w="10295" h="3499">
                <a:moveTo>
                  <a:pt x="4837" y="15553"/>
                </a:moveTo>
                <a:cubicBezTo>
                  <a:pt x="5034" y="15538"/>
                  <a:pt x="5133" y="15629"/>
                  <a:pt x="5060" y="15850"/>
                </a:cubicBezTo>
                <a:cubicBezTo>
                  <a:pt x="4994" y="16049"/>
                  <a:pt x="4829" y="16057"/>
                  <a:pt x="4713" y="15925"/>
                </a:cubicBezTo>
                <a:cubicBezTo>
                  <a:pt x="4916" y="15793"/>
                  <a:pt x="5012" y="15890"/>
                  <a:pt x="5209" y="16024"/>
                </a:cubicBezTo>
              </a:path>
              <a:path w="10295" h="3499">
                <a:moveTo>
                  <a:pt x="4093" y="16346"/>
                </a:moveTo>
                <a:cubicBezTo>
                  <a:pt x="4395" y="16329"/>
                  <a:pt x="4687" y="16264"/>
                  <a:pt x="4986" y="16222"/>
                </a:cubicBezTo>
                <a:cubicBezTo>
                  <a:pt x="5167" y="16202"/>
                  <a:pt x="5200" y="16193"/>
                  <a:pt x="5308" y="16197"/>
                </a:cubicBezTo>
              </a:path>
              <a:path w="10295" h="3499">
                <a:moveTo>
                  <a:pt x="4911" y="16545"/>
                </a:moveTo>
                <a:cubicBezTo>
                  <a:pt x="4865" y="16559"/>
                  <a:pt x="4507" y="16631"/>
                  <a:pt x="4490" y="16669"/>
                </a:cubicBezTo>
                <a:cubicBezTo>
                  <a:pt x="4461" y="16732"/>
                  <a:pt x="4490" y="16896"/>
                  <a:pt x="4490" y="16966"/>
                </a:cubicBezTo>
                <a:cubicBezTo>
                  <a:pt x="4662" y="16794"/>
                  <a:pt x="4745" y="16785"/>
                  <a:pt x="4961" y="16867"/>
                </a:cubicBezTo>
                <a:cubicBezTo>
                  <a:pt x="4916" y="17092"/>
                  <a:pt x="4772" y="17406"/>
                  <a:pt x="4465" y="17388"/>
                </a:cubicBezTo>
                <a:cubicBezTo>
                  <a:pt x="4432" y="17363"/>
                  <a:pt x="4399" y="17339"/>
                  <a:pt x="4366" y="17314"/>
                </a:cubicBezTo>
              </a:path>
              <a:path w="10295" h="3499">
                <a:moveTo>
                  <a:pt x="5904" y="16346"/>
                </a:moveTo>
                <a:cubicBezTo>
                  <a:pt x="6032" y="16489"/>
                  <a:pt x="6149" y="16639"/>
                  <a:pt x="6251" y="16793"/>
                </a:cubicBezTo>
                <a:cubicBezTo>
                  <a:pt x="6259" y="16801"/>
                  <a:pt x="6268" y="16810"/>
                  <a:pt x="6276" y="16818"/>
                </a:cubicBezTo>
              </a:path>
              <a:path w="10295" h="3499">
                <a:moveTo>
                  <a:pt x="6176" y="16222"/>
                </a:moveTo>
                <a:cubicBezTo>
                  <a:pt x="6125" y="16428"/>
                  <a:pt x="6040" y="16637"/>
                  <a:pt x="6003" y="16842"/>
                </a:cubicBezTo>
              </a:path>
              <a:path w="10295" h="3499">
                <a:moveTo>
                  <a:pt x="6796" y="15875"/>
                </a:moveTo>
                <a:cubicBezTo>
                  <a:pt x="6806" y="16033"/>
                  <a:pt x="6821" y="16187"/>
                  <a:pt x="6821" y="16346"/>
                </a:cubicBezTo>
              </a:path>
              <a:path w="10295" h="3499">
                <a:moveTo>
                  <a:pt x="7367" y="15577"/>
                </a:moveTo>
                <a:cubicBezTo>
                  <a:pt x="7299" y="15664"/>
                  <a:pt x="7198" y="15665"/>
                  <a:pt x="7144" y="15726"/>
                </a:cubicBezTo>
                <a:cubicBezTo>
                  <a:pt x="7083" y="15795"/>
                  <a:pt x="7078" y="15863"/>
                  <a:pt x="7069" y="15949"/>
                </a:cubicBezTo>
                <a:cubicBezTo>
                  <a:pt x="7182" y="15882"/>
                  <a:pt x="7458" y="15701"/>
                  <a:pt x="7516" y="15949"/>
                </a:cubicBezTo>
                <a:cubicBezTo>
                  <a:pt x="7570" y="16179"/>
                  <a:pt x="7330" y="16185"/>
                  <a:pt x="7193" y="16222"/>
                </a:cubicBezTo>
              </a:path>
              <a:path w="10295" h="3499">
                <a:moveTo>
                  <a:pt x="6672" y="16446"/>
                </a:moveTo>
                <a:cubicBezTo>
                  <a:pt x="7014" y="16371"/>
                  <a:pt x="7340" y="16271"/>
                  <a:pt x="7689" y="16247"/>
                </a:cubicBezTo>
              </a:path>
              <a:path w="10295" h="3499">
                <a:moveTo>
                  <a:pt x="6945" y="16644"/>
                </a:moveTo>
                <a:cubicBezTo>
                  <a:pt x="6939" y="16745"/>
                  <a:pt x="6928" y="16842"/>
                  <a:pt x="6921" y="16942"/>
                </a:cubicBezTo>
                <a:cubicBezTo>
                  <a:pt x="7047" y="16941"/>
                  <a:pt x="7121" y="16872"/>
                  <a:pt x="7243" y="16793"/>
                </a:cubicBezTo>
              </a:path>
              <a:path w="10295" h="3499">
                <a:moveTo>
                  <a:pt x="7243" y="16446"/>
                </a:moveTo>
                <a:cubicBezTo>
                  <a:pt x="7205" y="16672"/>
                  <a:pt x="7193" y="16886"/>
                  <a:pt x="7193" y="17115"/>
                </a:cubicBezTo>
                <a:cubicBezTo>
                  <a:pt x="7193" y="17132"/>
                  <a:pt x="7193" y="17148"/>
                  <a:pt x="7193" y="17165"/>
                </a:cubicBezTo>
              </a:path>
              <a:path w="10295" h="3499">
                <a:moveTo>
                  <a:pt x="4118" y="15379"/>
                </a:moveTo>
                <a:cubicBezTo>
                  <a:pt x="4396" y="15500"/>
                  <a:pt x="4581" y="15720"/>
                  <a:pt x="4812" y="15925"/>
                </a:cubicBezTo>
                <a:cubicBezTo>
                  <a:pt x="4909" y="16002"/>
                  <a:pt x="4935" y="16005"/>
                  <a:pt x="4961" y="16073"/>
                </a:cubicBezTo>
              </a:path>
              <a:path w="10295" h="3499">
                <a:moveTo>
                  <a:pt x="4688" y="14908"/>
                </a:moveTo>
                <a:cubicBezTo>
                  <a:pt x="4563" y="14883"/>
                  <a:pt x="4440" y="14934"/>
                  <a:pt x="4341" y="15032"/>
                </a:cubicBezTo>
                <a:cubicBezTo>
                  <a:pt x="4341" y="15040"/>
                  <a:pt x="4341" y="15048"/>
                  <a:pt x="4341" y="15056"/>
                </a:cubicBezTo>
                <a:cubicBezTo>
                  <a:pt x="4466" y="15133"/>
                  <a:pt x="4752" y="15215"/>
                  <a:pt x="4614" y="15429"/>
                </a:cubicBezTo>
                <a:cubicBezTo>
                  <a:pt x="4589" y="15437"/>
                  <a:pt x="4564" y="15445"/>
                  <a:pt x="4539" y="15453"/>
                </a:cubicBezTo>
                <a:cubicBezTo>
                  <a:pt x="4477" y="15265"/>
                  <a:pt x="4549" y="15126"/>
                  <a:pt x="4614" y="14932"/>
                </a:cubicBezTo>
              </a:path>
              <a:path w="10295" h="3499">
                <a:moveTo>
                  <a:pt x="6821" y="16669"/>
                </a:moveTo>
                <a:cubicBezTo>
                  <a:pt x="6777" y="16691"/>
                  <a:pt x="7145" y="17061"/>
                  <a:pt x="7169" y="17090"/>
                </a:cubicBezTo>
                <a:cubicBezTo>
                  <a:pt x="7215" y="17146"/>
                  <a:pt x="7419" y="17503"/>
                  <a:pt x="7441" y="17413"/>
                </a:cubicBezTo>
              </a:path>
              <a:path w="10295" h="3499">
                <a:moveTo>
                  <a:pt x="7913" y="17438"/>
                </a:moveTo>
                <a:cubicBezTo>
                  <a:pt x="7927" y="17694"/>
                  <a:pt x="7901" y="17926"/>
                  <a:pt x="7888" y="18182"/>
                </a:cubicBezTo>
                <a:cubicBezTo>
                  <a:pt x="7888" y="18190"/>
                  <a:pt x="7888" y="18199"/>
                  <a:pt x="7888" y="18207"/>
                </a:cubicBezTo>
              </a:path>
              <a:path w="10295" h="3499">
                <a:moveTo>
                  <a:pt x="4341" y="16594"/>
                </a:moveTo>
                <a:cubicBezTo>
                  <a:pt x="4464" y="16680"/>
                  <a:pt x="4744" y="17067"/>
                  <a:pt x="4887" y="17289"/>
                </a:cubicBezTo>
                <a:cubicBezTo>
                  <a:pt x="4986" y="17446"/>
                  <a:pt x="5001" y="17472"/>
                  <a:pt x="5060" y="17562"/>
                </a:cubicBezTo>
              </a:path>
              <a:path w="10295" h="3499">
                <a:moveTo>
                  <a:pt x="3770" y="17190"/>
                </a:moveTo>
                <a:cubicBezTo>
                  <a:pt x="3860" y="17413"/>
                  <a:pt x="3927" y="17633"/>
                  <a:pt x="3994" y="17859"/>
                </a:cubicBezTo>
                <a:cubicBezTo>
                  <a:pt x="4002" y="17876"/>
                  <a:pt x="4010" y="17892"/>
                  <a:pt x="4018" y="17909"/>
                </a:cubicBezTo>
              </a:path>
              <a:path w="10295" h="3499">
                <a:moveTo>
                  <a:pt x="6796" y="15726"/>
                </a:moveTo>
                <a:cubicBezTo>
                  <a:pt x="7094" y="15792"/>
                  <a:pt x="7327" y="15998"/>
                  <a:pt x="7640" y="16073"/>
                </a:cubicBezTo>
                <a:cubicBezTo>
                  <a:pt x="7665" y="16073"/>
                  <a:pt x="7689" y="16073"/>
                  <a:pt x="7714" y="16073"/>
                </a:cubicBezTo>
              </a:path>
              <a:path w="10295" h="3499">
                <a:moveTo>
                  <a:pt x="6921" y="14858"/>
                </a:moveTo>
                <a:cubicBezTo>
                  <a:pt x="6943" y="14769"/>
                  <a:pt x="6943" y="14743"/>
                  <a:pt x="6995" y="14709"/>
                </a:cubicBezTo>
                <a:cubicBezTo>
                  <a:pt x="7080" y="14806"/>
                  <a:pt x="7118" y="14992"/>
                  <a:pt x="6995" y="15106"/>
                </a:cubicBezTo>
                <a:cubicBezTo>
                  <a:pt x="6978" y="15106"/>
                  <a:pt x="6962" y="15106"/>
                  <a:pt x="6945" y="15106"/>
                </a:cubicBezTo>
                <a:cubicBezTo>
                  <a:pt x="7028" y="14997"/>
                  <a:pt x="7189" y="14966"/>
                  <a:pt x="7218" y="15156"/>
                </a:cubicBezTo>
                <a:cubicBezTo>
                  <a:pt x="7250" y="15367"/>
                  <a:pt x="7044" y="15409"/>
                  <a:pt x="6896" y="15429"/>
                </a:cubicBezTo>
              </a:path>
              <a:path w="10295" h="3499">
                <a:moveTo>
                  <a:pt x="8731" y="16272"/>
                </a:moveTo>
                <a:cubicBezTo>
                  <a:pt x="8872" y="16312"/>
                  <a:pt x="9007" y="16337"/>
                  <a:pt x="9153" y="16346"/>
                </a:cubicBezTo>
              </a:path>
              <a:path w="10295" h="3499">
                <a:moveTo>
                  <a:pt x="8756" y="16644"/>
                </a:moveTo>
                <a:cubicBezTo>
                  <a:pt x="8903" y="16604"/>
                  <a:pt x="9005" y="16605"/>
                  <a:pt x="9153" y="16619"/>
                </a:cubicBezTo>
              </a:path>
              <a:path w="10295" h="3499">
                <a:moveTo>
                  <a:pt x="10393" y="15776"/>
                </a:moveTo>
                <a:cubicBezTo>
                  <a:pt x="10385" y="15801"/>
                  <a:pt x="10376" y="15825"/>
                  <a:pt x="10368" y="15850"/>
                </a:cubicBezTo>
                <a:cubicBezTo>
                  <a:pt x="10525" y="15600"/>
                  <a:pt x="10669" y="15784"/>
                  <a:pt x="10641" y="16049"/>
                </a:cubicBezTo>
                <a:cubicBezTo>
                  <a:pt x="10610" y="16342"/>
                  <a:pt x="10389" y="16481"/>
                  <a:pt x="10145" y="16421"/>
                </a:cubicBezTo>
                <a:cubicBezTo>
                  <a:pt x="10240" y="16249"/>
                  <a:pt x="10374" y="16025"/>
                  <a:pt x="10616" y="16123"/>
                </a:cubicBezTo>
                <a:cubicBezTo>
                  <a:pt x="10690" y="16196"/>
                  <a:pt x="10715" y="16220"/>
                  <a:pt x="10716" y="16297"/>
                </a:cubicBezTo>
              </a:path>
              <a:path w="10295" h="3499">
                <a:moveTo>
                  <a:pt x="10790" y="15701"/>
                </a:moveTo>
                <a:cubicBezTo>
                  <a:pt x="10851" y="15823"/>
                  <a:pt x="10825" y="15916"/>
                  <a:pt x="10815" y="16049"/>
                </a:cubicBezTo>
                <a:cubicBezTo>
                  <a:pt x="10977" y="16027"/>
                  <a:pt x="11112" y="15970"/>
                  <a:pt x="11261" y="15900"/>
                </a:cubicBezTo>
              </a:path>
              <a:path w="10295" h="3499">
                <a:moveTo>
                  <a:pt x="11088" y="15429"/>
                </a:moveTo>
                <a:cubicBezTo>
                  <a:pt x="11142" y="15749"/>
                  <a:pt x="11147" y="16049"/>
                  <a:pt x="11137" y="16371"/>
                </a:cubicBezTo>
                <a:cubicBezTo>
                  <a:pt x="11137" y="16470"/>
                  <a:pt x="11137" y="16487"/>
                  <a:pt x="11137" y="16545"/>
                </a:cubicBezTo>
              </a:path>
              <a:path w="10295" h="3499">
                <a:moveTo>
                  <a:pt x="9723" y="16718"/>
                </a:moveTo>
                <a:cubicBezTo>
                  <a:pt x="10089" y="16718"/>
                  <a:pt x="10450" y="16738"/>
                  <a:pt x="10815" y="16768"/>
                </a:cubicBezTo>
                <a:cubicBezTo>
                  <a:pt x="11015" y="16784"/>
                  <a:pt x="11143" y="16782"/>
                  <a:pt x="11336" y="16768"/>
                </a:cubicBezTo>
              </a:path>
              <a:path w="10295" h="3499">
                <a:moveTo>
                  <a:pt x="10517" y="17041"/>
                </a:moveTo>
                <a:cubicBezTo>
                  <a:pt x="10517" y="17024"/>
                  <a:pt x="10517" y="17008"/>
                  <a:pt x="10517" y="16991"/>
                </a:cubicBezTo>
                <a:cubicBezTo>
                  <a:pt x="10591" y="17017"/>
                  <a:pt x="10482" y="17421"/>
                  <a:pt x="10443" y="17611"/>
                </a:cubicBezTo>
                <a:cubicBezTo>
                  <a:pt x="10423" y="17710"/>
                  <a:pt x="10415" y="17726"/>
                  <a:pt x="10418" y="17785"/>
                </a:cubicBezTo>
              </a:path>
              <a:path w="10295" h="3499">
                <a:moveTo>
                  <a:pt x="11931" y="16818"/>
                </a:moveTo>
                <a:cubicBezTo>
                  <a:pt x="12066" y="16781"/>
                  <a:pt x="12210" y="16793"/>
                  <a:pt x="12353" y="16793"/>
                </a:cubicBezTo>
                <a:cubicBezTo>
                  <a:pt x="12369" y="16793"/>
                  <a:pt x="12386" y="16793"/>
                  <a:pt x="12402" y="16793"/>
                </a:cubicBezTo>
              </a:path>
              <a:path w="10295" h="3499">
                <a:moveTo>
                  <a:pt x="12030" y="17090"/>
                </a:moveTo>
                <a:cubicBezTo>
                  <a:pt x="12179" y="17067"/>
                  <a:pt x="12328" y="17043"/>
                  <a:pt x="12477" y="17016"/>
                </a:cubicBezTo>
              </a:path>
              <a:path w="10295" h="3499">
                <a:moveTo>
                  <a:pt x="13047" y="16644"/>
                </a:moveTo>
                <a:cubicBezTo>
                  <a:pt x="13047" y="16619"/>
                  <a:pt x="13047" y="16595"/>
                  <a:pt x="13047" y="16570"/>
                </a:cubicBezTo>
                <a:cubicBezTo>
                  <a:pt x="13321" y="16569"/>
                  <a:pt x="13421" y="16717"/>
                  <a:pt x="13345" y="17016"/>
                </a:cubicBezTo>
                <a:cubicBezTo>
                  <a:pt x="13277" y="17286"/>
                  <a:pt x="13121" y="17335"/>
                  <a:pt x="12898" y="17438"/>
                </a:cubicBezTo>
                <a:cubicBezTo>
                  <a:pt x="12948" y="17237"/>
                  <a:pt x="13082" y="17010"/>
                  <a:pt x="13345" y="17090"/>
                </a:cubicBezTo>
                <a:cubicBezTo>
                  <a:pt x="13465" y="17126"/>
                  <a:pt x="13515" y="17267"/>
                  <a:pt x="13568" y="17363"/>
                </a:cubicBezTo>
              </a:path>
              <a:path w="10295" h="3499">
                <a:moveTo>
                  <a:pt x="13643" y="16570"/>
                </a:moveTo>
                <a:cubicBezTo>
                  <a:pt x="13658" y="16690"/>
                  <a:pt x="13649" y="16806"/>
                  <a:pt x="13667" y="16917"/>
                </a:cubicBezTo>
                <a:cubicBezTo>
                  <a:pt x="13838" y="16870"/>
                  <a:pt x="13927" y="16827"/>
                  <a:pt x="14064" y="16718"/>
                </a:cubicBezTo>
              </a:path>
              <a:path w="10295" h="3499">
                <a:moveTo>
                  <a:pt x="13915" y="16321"/>
                </a:moveTo>
                <a:cubicBezTo>
                  <a:pt x="13941" y="16685"/>
                  <a:pt x="13944" y="17029"/>
                  <a:pt x="13866" y="17388"/>
                </a:cubicBezTo>
                <a:cubicBezTo>
                  <a:pt x="13858" y="17405"/>
                  <a:pt x="13849" y="17421"/>
                  <a:pt x="13841" y="174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200" y="4214880"/>
            <a:ext cx="519120" cy="920520"/>
          </a:xfrm>
          <a:custGeom>
            <a:avLst/>
            <a:gdLst/>
            <a:ahLst/>
            <a:rect l="l" t="t" r="r" b="b"/>
            <a:pathLst>
              <a:path w="1440" h="2556">
                <a:moveTo>
                  <a:pt x="1091" y="11782"/>
                </a:moveTo>
                <a:cubicBezTo>
                  <a:pt x="1143" y="11731"/>
                  <a:pt x="1162" y="11714"/>
                  <a:pt x="1215" y="11708"/>
                </a:cubicBezTo>
                <a:cubicBezTo>
                  <a:pt x="1268" y="11847"/>
                  <a:pt x="1220" y="11961"/>
                  <a:pt x="1091" y="12055"/>
                </a:cubicBezTo>
                <a:cubicBezTo>
                  <a:pt x="1066" y="12063"/>
                  <a:pt x="1042" y="12072"/>
                  <a:pt x="1017" y="12080"/>
                </a:cubicBezTo>
                <a:cubicBezTo>
                  <a:pt x="1217" y="12067"/>
                  <a:pt x="1264" y="12179"/>
                  <a:pt x="1091" y="12328"/>
                </a:cubicBezTo>
                <a:cubicBezTo>
                  <a:pt x="957" y="12443"/>
                  <a:pt x="903" y="12423"/>
                  <a:pt x="819" y="12328"/>
                </a:cubicBezTo>
              </a:path>
              <a:path w="1440" h="2556">
                <a:moveTo>
                  <a:pt x="1588" y="11708"/>
                </a:moveTo>
                <a:cubicBezTo>
                  <a:pt x="1756" y="11778"/>
                  <a:pt x="1810" y="11867"/>
                  <a:pt x="1712" y="12055"/>
                </a:cubicBezTo>
                <a:cubicBezTo>
                  <a:pt x="1614" y="12243"/>
                  <a:pt x="1421" y="12275"/>
                  <a:pt x="1290" y="12179"/>
                </a:cubicBezTo>
                <a:cubicBezTo>
                  <a:pt x="1419" y="12011"/>
                  <a:pt x="1513" y="12044"/>
                  <a:pt x="1612" y="12254"/>
                </a:cubicBezTo>
                <a:cubicBezTo>
                  <a:pt x="1620" y="12287"/>
                  <a:pt x="1629" y="12320"/>
                  <a:pt x="1637" y="12353"/>
                </a:cubicBezTo>
              </a:path>
              <a:path w="1440" h="2556">
                <a:moveTo>
                  <a:pt x="645" y="12626"/>
                </a:moveTo>
                <a:cubicBezTo>
                  <a:pt x="671" y="12752"/>
                  <a:pt x="708" y="12870"/>
                  <a:pt x="719" y="12998"/>
                </a:cubicBezTo>
              </a:path>
              <a:path w="1440" h="2556">
                <a:moveTo>
                  <a:pt x="843" y="12626"/>
                </a:moveTo>
                <a:cubicBezTo>
                  <a:pt x="743" y="12748"/>
                  <a:pt x="669" y="12882"/>
                  <a:pt x="595" y="13022"/>
                </a:cubicBezTo>
              </a:path>
              <a:path w="1440" h="2556">
                <a:moveTo>
                  <a:pt x="1215" y="12626"/>
                </a:moveTo>
                <a:cubicBezTo>
                  <a:pt x="1196" y="12764"/>
                  <a:pt x="1144" y="12893"/>
                  <a:pt x="1091" y="13022"/>
                </a:cubicBezTo>
                <a:cubicBezTo>
                  <a:pt x="1083" y="13039"/>
                  <a:pt x="1075" y="13055"/>
                  <a:pt x="1067" y="13072"/>
                </a:cubicBezTo>
              </a:path>
              <a:path w="1440" h="2556">
                <a:moveTo>
                  <a:pt x="1563" y="12626"/>
                </a:moveTo>
                <a:cubicBezTo>
                  <a:pt x="1447" y="12667"/>
                  <a:pt x="1417" y="12656"/>
                  <a:pt x="1364" y="12774"/>
                </a:cubicBezTo>
                <a:cubicBezTo>
                  <a:pt x="1356" y="12799"/>
                  <a:pt x="1347" y="12824"/>
                  <a:pt x="1339" y="12849"/>
                </a:cubicBezTo>
                <a:cubicBezTo>
                  <a:pt x="1422" y="12843"/>
                  <a:pt x="1682" y="12759"/>
                  <a:pt x="1637" y="12923"/>
                </a:cubicBezTo>
                <a:cubicBezTo>
                  <a:pt x="1588" y="13101"/>
                  <a:pt x="1367" y="13048"/>
                  <a:pt x="1265" y="12998"/>
                </a:cubicBezTo>
              </a:path>
              <a:path w="1440" h="2556">
                <a:moveTo>
                  <a:pt x="496" y="13271"/>
                </a:moveTo>
                <a:cubicBezTo>
                  <a:pt x="901" y="13217"/>
                  <a:pt x="1307" y="13144"/>
                  <a:pt x="1712" y="13097"/>
                </a:cubicBezTo>
                <a:cubicBezTo>
                  <a:pt x="1745" y="13097"/>
                  <a:pt x="1778" y="13097"/>
                  <a:pt x="1811" y="13097"/>
                </a:cubicBezTo>
              </a:path>
              <a:path w="1440" h="2556">
                <a:moveTo>
                  <a:pt x="446" y="13717"/>
                </a:moveTo>
                <a:cubicBezTo>
                  <a:pt x="438" y="13830"/>
                  <a:pt x="402" y="13910"/>
                  <a:pt x="372" y="14015"/>
                </a:cubicBezTo>
                <a:cubicBezTo>
                  <a:pt x="519" y="14039"/>
                  <a:pt x="560" y="14005"/>
                  <a:pt x="695" y="13940"/>
                </a:cubicBezTo>
              </a:path>
              <a:path w="1440" h="2556">
                <a:moveTo>
                  <a:pt x="868" y="13543"/>
                </a:moveTo>
                <a:cubicBezTo>
                  <a:pt x="763" y="13782"/>
                  <a:pt x="692" y="14033"/>
                  <a:pt x="571" y="14263"/>
                </a:cubicBezTo>
              </a:path>
              <a:path w="1440" h="2556">
                <a:moveTo>
                  <a:pt x="1191" y="13692"/>
                </a:moveTo>
                <a:cubicBezTo>
                  <a:pt x="1096" y="13763"/>
                  <a:pt x="1068" y="13783"/>
                  <a:pt x="1017" y="13841"/>
                </a:cubicBezTo>
                <a:cubicBezTo>
                  <a:pt x="1065" y="13938"/>
                  <a:pt x="1230" y="14007"/>
                  <a:pt x="1215" y="14139"/>
                </a:cubicBezTo>
                <a:cubicBezTo>
                  <a:pt x="1164" y="14190"/>
                  <a:pt x="1144" y="14208"/>
                  <a:pt x="1091" y="14213"/>
                </a:cubicBezTo>
                <a:cubicBezTo>
                  <a:pt x="1077" y="14032"/>
                  <a:pt x="1166" y="13949"/>
                  <a:pt x="1290" y="13816"/>
                </a:cubicBezTo>
              </a:path>
              <a:path w="1440" h="2556">
                <a:moveTo>
                  <a:pt x="1538" y="13643"/>
                </a:moveTo>
                <a:cubicBezTo>
                  <a:pt x="1455" y="13808"/>
                  <a:pt x="1395" y="13937"/>
                  <a:pt x="1364" y="14114"/>
                </a:cubicBezTo>
                <a:cubicBezTo>
                  <a:pt x="1488" y="14104"/>
                  <a:pt x="1783" y="13919"/>
                  <a:pt x="1662" y="13717"/>
                </a:cubicBezTo>
                <a:cubicBezTo>
                  <a:pt x="1621" y="13700"/>
                  <a:pt x="1579" y="13684"/>
                  <a:pt x="1538" y="136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19320" y="2057400"/>
                <a:ext cx="99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14240" y="3376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71600" y="3429000"/>
                <a:ext cx="1676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57000" y="48020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71600" y="5029200"/>
                <a:ext cx="16002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95240" y="4259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08" y="11832"/>
                </a:moveTo>
                <a:lnTo>
                  <a:pt x="2208" y="1183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17720" y="1847880"/>
            <a:ext cx="2581200" cy="1251000"/>
          </a:xfrm>
          <a:custGeom>
            <a:avLst/>
            <a:gdLst/>
            <a:ahLst/>
            <a:rect l="l" t="t" r="r" b="b"/>
            <a:pathLst>
              <a:path w="7169" h="3473">
                <a:moveTo>
                  <a:pt x="4316" y="6573"/>
                </a:moveTo>
                <a:cubicBezTo>
                  <a:pt x="4369" y="6616"/>
                  <a:pt x="4432" y="6639"/>
                  <a:pt x="4490" y="6672"/>
                </a:cubicBezTo>
                <a:cubicBezTo>
                  <a:pt x="4550" y="6706"/>
                  <a:pt x="4616" y="6687"/>
                  <a:pt x="4663" y="6747"/>
                </a:cubicBezTo>
                <a:cubicBezTo>
                  <a:pt x="4717" y="6815"/>
                  <a:pt x="4784" y="6854"/>
                  <a:pt x="4837" y="6921"/>
                </a:cubicBezTo>
                <a:cubicBezTo>
                  <a:pt x="4918" y="7023"/>
                  <a:pt x="5003" y="7117"/>
                  <a:pt x="5085" y="7218"/>
                </a:cubicBezTo>
                <a:cubicBezTo>
                  <a:pt x="5040" y="7167"/>
                  <a:pt x="4954" y="7083"/>
                  <a:pt x="4887" y="7045"/>
                </a:cubicBezTo>
                <a:cubicBezTo>
                  <a:pt x="4855" y="7027"/>
                  <a:pt x="4747" y="6954"/>
                  <a:pt x="4713" y="6945"/>
                </a:cubicBezTo>
                <a:cubicBezTo>
                  <a:pt x="4647" y="6927"/>
                  <a:pt x="4577" y="6932"/>
                  <a:pt x="4514" y="6896"/>
                </a:cubicBezTo>
                <a:cubicBezTo>
                  <a:pt x="4431" y="6849"/>
                  <a:pt x="4373" y="6832"/>
                  <a:pt x="4291" y="6796"/>
                </a:cubicBezTo>
                <a:cubicBezTo>
                  <a:pt x="4236" y="6772"/>
                  <a:pt x="4227" y="6741"/>
                  <a:pt x="4192" y="6697"/>
                </a:cubicBezTo>
              </a:path>
              <a:path w="7169" h="3473">
                <a:moveTo>
                  <a:pt x="3398" y="5879"/>
                </a:moveTo>
                <a:cubicBezTo>
                  <a:pt x="3549" y="5878"/>
                  <a:pt x="3803" y="6221"/>
                  <a:pt x="3919" y="6350"/>
                </a:cubicBezTo>
                <a:cubicBezTo>
                  <a:pt x="4023" y="6466"/>
                  <a:pt x="4082" y="6529"/>
                  <a:pt x="4192" y="6623"/>
                </a:cubicBezTo>
              </a:path>
              <a:path w="7169" h="3473">
                <a:moveTo>
                  <a:pt x="3621" y="5234"/>
                </a:moveTo>
                <a:cubicBezTo>
                  <a:pt x="3621" y="5182"/>
                  <a:pt x="3622" y="5164"/>
                  <a:pt x="3646" y="5135"/>
                </a:cubicBezTo>
                <a:cubicBezTo>
                  <a:pt x="3670" y="5278"/>
                  <a:pt x="3689" y="5412"/>
                  <a:pt x="3696" y="5556"/>
                </a:cubicBezTo>
              </a:path>
              <a:path w="7169" h="3473">
                <a:moveTo>
                  <a:pt x="4961" y="7293"/>
                </a:moveTo>
                <a:cubicBezTo>
                  <a:pt x="4961" y="7177"/>
                  <a:pt x="5010" y="7177"/>
                  <a:pt x="5135" y="7218"/>
                </a:cubicBezTo>
                <a:cubicBezTo>
                  <a:pt x="5421" y="7312"/>
                  <a:pt x="5688" y="7438"/>
                  <a:pt x="5978" y="7516"/>
                </a:cubicBezTo>
                <a:cubicBezTo>
                  <a:pt x="6003" y="7524"/>
                  <a:pt x="6027" y="7533"/>
                  <a:pt x="6052" y="7541"/>
                </a:cubicBezTo>
              </a:path>
              <a:path w="7169" h="3473">
                <a:moveTo>
                  <a:pt x="5755" y="8037"/>
                </a:moveTo>
                <a:cubicBezTo>
                  <a:pt x="5791" y="7928"/>
                  <a:pt x="5909" y="7796"/>
                  <a:pt x="6052" y="7813"/>
                </a:cubicBezTo>
                <a:cubicBezTo>
                  <a:pt x="6077" y="7830"/>
                  <a:pt x="6102" y="7846"/>
                  <a:pt x="6127" y="7863"/>
                </a:cubicBezTo>
                <a:cubicBezTo>
                  <a:pt x="6116" y="7937"/>
                  <a:pt x="5994" y="8267"/>
                  <a:pt x="6028" y="8136"/>
                </a:cubicBezTo>
                <a:cubicBezTo>
                  <a:pt x="6181" y="8100"/>
                  <a:pt x="6314" y="8108"/>
                  <a:pt x="6201" y="8310"/>
                </a:cubicBezTo>
                <a:cubicBezTo>
                  <a:pt x="6114" y="8465"/>
                  <a:pt x="5994" y="8508"/>
                  <a:pt x="5829" y="8508"/>
                </a:cubicBezTo>
              </a:path>
              <a:path w="7169" h="3473">
                <a:moveTo>
                  <a:pt x="4291" y="7119"/>
                </a:moveTo>
                <a:cubicBezTo>
                  <a:pt x="4450" y="6939"/>
                  <a:pt x="4614" y="6741"/>
                  <a:pt x="4787" y="6573"/>
                </a:cubicBezTo>
                <a:cubicBezTo>
                  <a:pt x="4820" y="6548"/>
                  <a:pt x="4854" y="6524"/>
                  <a:pt x="4887" y="6499"/>
                </a:cubicBezTo>
                <a:cubicBezTo>
                  <a:pt x="4952" y="6363"/>
                  <a:pt x="4620" y="6788"/>
                  <a:pt x="4589" y="6821"/>
                </a:cubicBezTo>
                <a:cubicBezTo>
                  <a:pt x="4420" y="6999"/>
                  <a:pt x="4263" y="7166"/>
                  <a:pt x="4068" y="7317"/>
                </a:cubicBezTo>
              </a:path>
              <a:path w="7169" h="3473">
                <a:moveTo>
                  <a:pt x="3547" y="7863"/>
                </a:moveTo>
                <a:cubicBezTo>
                  <a:pt x="3724" y="7568"/>
                  <a:pt x="3904" y="7318"/>
                  <a:pt x="4142" y="7069"/>
                </a:cubicBezTo>
                <a:cubicBezTo>
                  <a:pt x="4167" y="7044"/>
                  <a:pt x="4192" y="7020"/>
                  <a:pt x="4217" y="6995"/>
                </a:cubicBezTo>
              </a:path>
              <a:path w="7169" h="3473">
                <a:moveTo>
                  <a:pt x="2828" y="8210"/>
                </a:moveTo>
                <a:cubicBezTo>
                  <a:pt x="2879" y="8058"/>
                  <a:pt x="2853" y="8069"/>
                  <a:pt x="3001" y="8037"/>
                </a:cubicBezTo>
                <a:cubicBezTo>
                  <a:pt x="3057" y="8167"/>
                  <a:pt x="3048" y="8212"/>
                  <a:pt x="3026" y="8359"/>
                </a:cubicBezTo>
                <a:cubicBezTo>
                  <a:pt x="3026" y="8203"/>
                  <a:pt x="3171" y="8131"/>
                  <a:pt x="3225" y="8334"/>
                </a:cubicBezTo>
                <a:cubicBezTo>
                  <a:pt x="3285" y="8562"/>
                  <a:pt x="3079" y="8589"/>
                  <a:pt x="2927" y="8582"/>
                </a:cubicBezTo>
                <a:cubicBezTo>
                  <a:pt x="2919" y="8582"/>
                  <a:pt x="2910" y="8582"/>
                  <a:pt x="2902" y="8582"/>
                </a:cubicBezTo>
              </a:path>
              <a:path w="7169" h="3473">
                <a:moveTo>
                  <a:pt x="5085" y="6524"/>
                </a:moveTo>
                <a:cubicBezTo>
                  <a:pt x="5300" y="6177"/>
                  <a:pt x="5562" y="5843"/>
                  <a:pt x="5829" y="5531"/>
                </a:cubicBezTo>
                <a:cubicBezTo>
                  <a:pt x="5862" y="5498"/>
                  <a:pt x="5895" y="5465"/>
                  <a:pt x="5928" y="5432"/>
                </a:cubicBezTo>
              </a:path>
              <a:path w="7169" h="3473">
                <a:moveTo>
                  <a:pt x="6251" y="5457"/>
                </a:moveTo>
                <a:cubicBezTo>
                  <a:pt x="6258" y="5524"/>
                  <a:pt x="6269" y="5588"/>
                  <a:pt x="6276" y="5655"/>
                </a:cubicBezTo>
                <a:cubicBezTo>
                  <a:pt x="6446" y="5612"/>
                  <a:pt x="6490" y="5565"/>
                  <a:pt x="6623" y="5432"/>
                </a:cubicBezTo>
              </a:path>
              <a:path w="7169" h="3473">
                <a:moveTo>
                  <a:pt x="6499" y="5159"/>
                </a:moveTo>
                <a:cubicBezTo>
                  <a:pt x="6499" y="5396"/>
                  <a:pt x="6489" y="5645"/>
                  <a:pt x="6524" y="5879"/>
                </a:cubicBezTo>
                <a:cubicBezTo>
                  <a:pt x="6543" y="5936"/>
                  <a:pt x="6551" y="5943"/>
                  <a:pt x="6548" y="5978"/>
                </a:cubicBezTo>
              </a:path>
              <a:path w="7169" h="3473">
                <a:moveTo>
                  <a:pt x="7293" y="6846"/>
                </a:moveTo>
                <a:cubicBezTo>
                  <a:pt x="7429" y="6835"/>
                  <a:pt x="7558" y="6809"/>
                  <a:pt x="7689" y="6772"/>
                </a:cubicBezTo>
              </a:path>
              <a:path w="7169" h="3473">
                <a:moveTo>
                  <a:pt x="7417" y="7069"/>
                </a:moveTo>
                <a:cubicBezTo>
                  <a:pt x="7535" y="7051"/>
                  <a:pt x="7646" y="7006"/>
                  <a:pt x="7764" y="6970"/>
                </a:cubicBezTo>
              </a:path>
              <a:path w="7169" h="3473">
                <a:moveTo>
                  <a:pt x="8409" y="5631"/>
                </a:moveTo>
                <a:cubicBezTo>
                  <a:pt x="8477" y="5812"/>
                  <a:pt x="8486" y="5860"/>
                  <a:pt x="8458" y="6052"/>
                </a:cubicBezTo>
                <a:cubicBezTo>
                  <a:pt x="8593" y="5993"/>
                  <a:pt x="8703" y="5914"/>
                  <a:pt x="8830" y="5829"/>
                </a:cubicBezTo>
              </a:path>
              <a:path w="7169" h="3473">
                <a:moveTo>
                  <a:pt x="8632" y="5283"/>
                </a:moveTo>
                <a:cubicBezTo>
                  <a:pt x="8698" y="5652"/>
                  <a:pt x="8769" y="6026"/>
                  <a:pt x="8806" y="6400"/>
                </a:cubicBezTo>
                <a:cubicBezTo>
                  <a:pt x="8806" y="6425"/>
                  <a:pt x="8806" y="6449"/>
                  <a:pt x="8806" y="6474"/>
                </a:cubicBezTo>
              </a:path>
              <a:path w="7169" h="3473">
                <a:moveTo>
                  <a:pt x="8260" y="6722"/>
                </a:moveTo>
                <a:cubicBezTo>
                  <a:pt x="8538" y="6648"/>
                  <a:pt x="8793" y="6563"/>
                  <a:pt x="9054" y="6449"/>
                </a:cubicBezTo>
                <a:cubicBezTo>
                  <a:pt x="9079" y="6441"/>
                  <a:pt x="9103" y="6432"/>
                  <a:pt x="9128" y="6424"/>
                </a:cubicBezTo>
              </a:path>
              <a:path w="7169" h="3473">
                <a:moveTo>
                  <a:pt x="9004" y="7094"/>
                </a:moveTo>
                <a:cubicBezTo>
                  <a:pt x="8947" y="6923"/>
                  <a:pt x="8926" y="6860"/>
                  <a:pt x="8731" y="6896"/>
                </a:cubicBezTo>
                <a:cubicBezTo>
                  <a:pt x="8723" y="7049"/>
                  <a:pt x="8747" y="7147"/>
                  <a:pt x="8806" y="7293"/>
                </a:cubicBezTo>
                <a:cubicBezTo>
                  <a:pt x="8992" y="7250"/>
                  <a:pt x="9019" y="7140"/>
                  <a:pt x="9103" y="6970"/>
                </a:cubicBezTo>
              </a:path>
              <a:path w="7169" h="3473">
                <a:moveTo>
                  <a:pt x="9029" y="6747"/>
                </a:moveTo>
                <a:cubicBezTo>
                  <a:pt x="9049" y="7033"/>
                  <a:pt x="9086" y="7334"/>
                  <a:pt x="9153" y="7615"/>
                </a:cubicBezTo>
                <a:cubicBezTo>
                  <a:pt x="9177" y="7663"/>
                  <a:pt x="9185" y="7677"/>
                  <a:pt x="9178" y="7714"/>
                </a:cubicBezTo>
              </a:path>
              <a:path w="7169" h="3473">
                <a:moveTo>
                  <a:pt x="8310" y="7615"/>
                </a:moveTo>
                <a:cubicBezTo>
                  <a:pt x="8483" y="7799"/>
                  <a:pt x="8663" y="7909"/>
                  <a:pt x="8930" y="7913"/>
                </a:cubicBezTo>
                <a:cubicBezTo>
                  <a:pt x="9197" y="7917"/>
                  <a:pt x="9518" y="7725"/>
                  <a:pt x="9699" y="7541"/>
                </a:cubicBezTo>
                <a:cubicBezTo>
                  <a:pt x="9940" y="7296"/>
                  <a:pt x="10016" y="7032"/>
                  <a:pt x="9996" y="6697"/>
                </a:cubicBezTo>
                <a:cubicBezTo>
                  <a:pt x="9980" y="6427"/>
                  <a:pt x="9865" y="6189"/>
                  <a:pt x="9748" y="5953"/>
                </a:cubicBezTo>
                <a:cubicBezTo>
                  <a:pt x="9650" y="5757"/>
                  <a:pt x="9535" y="5491"/>
                  <a:pt x="9351" y="5358"/>
                </a:cubicBezTo>
                <a:cubicBezTo>
                  <a:pt x="9196" y="5246"/>
                  <a:pt x="8944" y="5180"/>
                  <a:pt x="8756" y="5159"/>
                </a:cubicBezTo>
                <a:cubicBezTo>
                  <a:pt x="8611" y="5142"/>
                  <a:pt x="8450" y="5123"/>
                  <a:pt x="8310" y="5184"/>
                </a:cubicBezTo>
                <a:cubicBezTo>
                  <a:pt x="8163" y="5248"/>
                  <a:pt x="8026" y="5360"/>
                  <a:pt x="7962" y="5507"/>
                </a:cubicBezTo>
                <a:cubicBezTo>
                  <a:pt x="7857" y="5749"/>
                  <a:pt x="7838" y="5943"/>
                  <a:pt x="7838" y="6201"/>
                </a:cubicBezTo>
                <a:cubicBezTo>
                  <a:pt x="7838" y="6424"/>
                  <a:pt x="7896" y="6594"/>
                  <a:pt x="7987" y="6796"/>
                </a:cubicBezTo>
                <a:cubicBezTo>
                  <a:pt x="8040" y="6914"/>
                  <a:pt x="8114" y="7062"/>
                  <a:pt x="8186" y="7169"/>
                </a:cubicBezTo>
                <a:cubicBezTo>
                  <a:pt x="8303" y="7342"/>
                  <a:pt x="8380" y="7473"/>
                  <a:pt x="8458" y="7665"/>
                </a:cubicBezTo>
                <a:cubicBezTo>
                  <a:pt x="8466" y="7681"/>
                  <a:pt x="8475" y="7698"/>
                  <a:pt x="8483" y="77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75000" y="3160800"/>
            <a:ext cx="2340000" cy="1332000"/>
          </a:xfrm>
          <a:custGeom>
            <a:avLst/>
            <a:gdLst/>
            <a:ahLst/>
            <a:rect l="l" t="t" r="r" b="b"/>
            <a:pathLst>
              <a:path w="6500" h="3697">
                <a:moveTo>
                  <a:pt x="9376" y="10716"/>
                </a:moveTo>
                <a:cubicBezTo>
                  <a:pt x="9434" y="10687"/>
                  <a:pt x="9479" y="10691"/>
                  <a:pt x="9550" y="10691"/>
                </a:cubicBezTo>
              </a:path>
              <a:path w="6500" h="3697">
                <a:moveTo>
                  <a:pt x="9401" y="10939"/>
                </a:moveTo>
                <a:cubicBezTo>
                  <a:pt x="9492" y="10934"/>
                  <a:pt x="9562" y="10924"/>
                  <a:pt x="9649" y="10914"/>
                </a:cubicBezTo>
              </a:path>
              <a:path w="6500" h="3697">
                <a:moveTo>
                  <a:pt x="11013" y="9872"/>
                </a:moveTo>
                <a:cubicBezTo>
                  <a:pt x="10930" y="9966"/>
                  <a:pt x="10820" y="9936"/>
                  <a:pt x="10740" y="9996"/>
                </a:cubicBezTo>
                <a:cubicBezTo>
                  <a:pt x="10687" y="10035"/>
                  <a:pt x="10736" y="10164"/>
                  <a:pt x="10740" y="10220"/>
                </a:cubicBezTo>
                <a:cubicBezTo>
                  <a:pt x="10878" y="10159"/>
                  <a:pt x="11137" y="10037"/>
                  <a:pt x="11137" y="10319"/>
                </a:cubicBezTo>
                <a:cubicBezTo>
                  <a:pt x="11138" y="10626"/>
                  <a:pt x="10854" y="10535"/>
                  <a:pt x="10691" y="10468"/>
                </a:cubicBezTo>
              </a:path>
              <a:path w="6500" h="3697">
                <a:moveTo>
                  <a:pt x="11534" y="9798"/>
                </a:moveTo>
                <a:cubicBezTo>
                  <a:pt x="11429" y="9798"/>
                  <a:pt x="11372" y="9802"/>
                  <a:pt x="11286" y="9872"/>
                </a:cubicBezTo>
                <a:cubicBezTo>
                  <a:pt x="11167" y="9969"/>
                  <a:pt x="11252" y="9991"/>
                  <a:pt x="11286" y="10120"/>
                </a:cubicBezTo>
                <a:cubicBezTo>
                  <a:pt x="11286" y="10137"/>
                  <a:pt x="11286" y="10153"/>
                  <a:pt x="11286" y="10170"/>
                </a:cubicBezTo>
                <a:cubicBezTo>
                  <a:pt x="11403" y="10092"/>
                  <a:pt x="11579" y="9991"/>
                  <a:pt x="11658" y="10195"/>
                </a:cubicBezTo>
                <a:cubicBezTo>
                  <a:pt x="11732" y="10387"/>
                  <a:pt x="11470" y="10426"/>
                  <a:pt x="11361" y="10418"/>
                </a:cubicBezTo>
              </a:path>
              <a:path w="6500" h="3697">
                <a:moveTo>
                  <a:pt x="10517" y="10740"/>
                </a:moveTo>
                <a:cubicBezTo>
                  <a:pt x="10776" y="10698"/>
                  <a:pt x="11020" y="10682"/>
                  <a:pt x="11286" y="10666"/>
                </a:cubicBezTo>
                <a:cubicBezTo>
                  <a:pt x="11486" y="10654"/>
                  <a:pt x="11684" y="10642"/>
                  <a:pt x="11881" y="10616"/>
                </a:cubicBezTo>
              </a:path>
              <a:path w="6500" h="3697">
                <a:moveTo>
                  <a:pt x="10765" y="10988"/>
                </a:moveTo>
                <a:cubicBezTo>
                  <a:pt x="10736" y="10960"/>
                  <a:pt x="10728" y="10947"/>
                  <a:pt x="10740" y="10914"/>
                </a:cubicBezTo>
                <a:cubicBezTo>
                  <a:pt x="10823" y="11144"/>
                  <a:pt x="10812" y="11320"/>
                  <a:pt x="10790" y="11559"/>
                </a:cubicBezTo>
                <a:cubicBezTo>
                  <a:pt x="10790" y="11592"/>
                  <a:pt x="10790" y="11592"/>
                  <a:pt x="10790" y="11534"/>
                </a:cubicBezTo>
              </a:path>
              <a:path w="6500" h="3697">
                <a:moveTo>
                  <a:pt x="11187" y="10939"/>
                </a:moveTo>
                <a:cubicBezTo>
                  <a:pt x="11423" y="10897"/>
                  <a:pt x="11546" y="10950"/>
                  <a:pt x="11534" y="11237"/>
                </a:cubicBezTo>
                <a:cubicBezTo>
                  <a:pt x="11524" y="11479"/>
                  <a:pt x="11442" y="11512"/>
                  <a:pt x="11261" y="11559"/>
                </a:cubicBezTo>
                <a:cubicBezTo>
                  <a:pt x="11220" y="11393"/>
                  <a:pt x="11131" y="11161"/>
                  <a:pt x="11410" y="11212"/>
                </a:cubicBezTo>
                <a:cubicBezTo>
                  <a:pt x="11572" y="11242"/>
                  <a:pt x="11602" y="11333"/>
                  <a:pt x="11658" y="11460"/>
                </a:cubicBezTo>
              </a:path>
              <a:path w="6500" h="3697">
                <a:moveTo>
                  <a:pt x="12452" y="10616"/>
                </a:moveTo>
                <a:cubicBezTo>
                  <a:pt x="12559" y="10741"/>
                  <a:pt x="12645" y="10868"/>
                  <a:pt x="12725" y="11013"/>
                </a:cubicBezTo>
              </a:path>
              <a:path w="6500" h="3697">
                <a:moveTo>
                  <a:pt x="12750" y="10418"/>
                </a:moveTo>
                <a:cubicBezTo>
                  <a:pt x="12629" y="10610"/>
                  <a:pt x="12529" y="10810"/>
                  <a:pt x="12427" y="11013"/>
                </a:cubicBezTo>
              </a:path>
              <a:path w="6500" h="3697">
                <a:moveTo>
                  <a:pt x="13543" y="9897"/>
                </a:moveTo>
                <a:cubicBezTo>
                  <a:pt x="13582" y="9833"/>
                  <a:pt x="13637" y="9811"/>
                  <a:pt x="13717" y="9798"/>
                </a:cubicBezTo>
                <a:cubicBezTo>
                  <a:pt x="13727" y="9956"/>
                  <a:pt x="13707" y="10003"/>
                  <a:pt x="13568" y="10096"/>
                </a:cubicBezTo>
                <a:cubicBezTo>
                  <a:pt x="13659" y="9990"/>
                  <a:pt x="13771" y="10016"/>
                  <a:pt x="13816" y="10170"/>
                </a:cubicBezTo>
                <a:cubicBezTo>
                  <a:pt x="13871" y="10358"/>
                  <a:pt x="13612" y="10379"/>
                  <a:pt x="13494" y="10393"/>
                </a:cubicBezTo>
              </a:path>
              <a:path w="6500" h="3697">
                <a:moveTo>
                  <a:pt x="14064" y="9773"/>
                </a:moveTo>
                <a:cubicBezTo>
                  <a:pt x="13985" y="9820"/>
                  <a:pt x="13923" y="9940"/>
                  <a:pt x="13940" y="10046"/>
                </a:cubicBezTo>
                <a:cubicBezTo>
                  <a:pt x="13957" y="10153"/>
                  <a:pt x="14222" y="9993"/>
                  <a:pt x="14263" y="9971"/>
                </a:cubicBezTo>
              </a:path>
              <a:path w="6500" h="3697">
                <a:moveTo>
                  <a:pt x="14238" y="9550"/>
                </a:moveTo>
                <a:cubicBezTo>
                  <a:pt x="14238" y="9839"/>
                  <a:pt x="14238" y="10129"/>
                  <a:pt x="14238" y="10418"/>
                </a:cubicBezTo>
              </a:path>
              <a:path w="6500" h="3697">
                <a:moveTo>
                  <a:pt x="13271" y="10641"/>
                </a:moveTo>
                <a:cubicBezTo>
                  <a:pt x="13436" y="10641"/>
                  <a:pt x="13603" y="10608"/>
                  <a:pt x="13767" y="10592"/>
                </a:cubicBezTo>
                <a:cubicBezTo>
                  <a:pt x="14023" y="10567"/>
                  <a:pt x="14280" y="10531"/>
                  <a:pt x="14536" y="10517"/>
                </a:cubicBezTo>
              </a:path>
              <a:path w="6500" h="3697">
                <a:moveTo>
                  <a:pt x="13618" y="10765"/>
                </a:moveTo>
                <a:cubicBezTo>
                  <a:pt x="13604" y="10989"/>
                  <a:pt x="13573" y="11209"/>
                  <a:pt x="13568" y="11435"/>
                </a:cubicBezTo>
                <a:cubicBezTo>
                  <a:pt x="13568" y="11503"/>
                  <a:pt x="13565" y="11533"/>
                  <a:pt x="13593" y="11460"/>
                </a:cubicBezTo>
              </a:path>
              <a:path w="6500" h="3697">
                <a:moveTo>
                  <a:pt x="13990" y="10889"/>
                </a:moveTo>
                <a:cubicBezTo>
                  <a:pt x="13990" y="11009"/>
                  <a:pt x="13974" y="11119"/>
                  <a:pt x="13965" y="11237"/>
                </a:cubicBezTo>
                <a:cubicBezTo>
                  <a:pt x="14113" y="11173"/>
                  <a:pt x="14236" y="11127"/>
                  <a:pt x="14387" y="11088"/>
                </a:cubicBezTo>
                <a:cubicBezTo>
                  <a:pt x="14403" y="11080"/>
                  <a:pt x="14420" y="11071"/>
                  <a:pt x="14436" y="11063"/>
                </a:cubicBezTo>
              </a:path>
              <a:path w="6500" h="3697">
                <a:moveTo>
                  <a:pt x="14312" y="10815"/>
                </a:moveTo>
                <a:cubicBezTo>
                  <a:pt x="14268" y="11049"/>
                  <a:pt x="14263" y="11271"/>
                  <a:pt x="14263" y="11509"/>
                </a:cubicBezTo>
                <a:cubicBezTo>
                  <a:pt x="14263" y="11559"/>
                  <a:pt x="14263" y="11576"/>
                  <a:pt x="14263" y="11509"/>
                </a:cubicBezTo>
              </a:path>
              <a:path w="6500" h="3697">
                <a:moveTo>
                  <a:pt x="10542" y="11832"/>
                </a:moveTo>
                <a:cubicBezTo>
                  <a:pt x="10796" y="11690"/>
                  <a:pt x="11026" y="11508"/>
                  <a:pt x="11261" y="11336"/>
                </a:cubicBezTo>
                <a:cubicBezTo>
                  <a:pt x="11391" y="11241"/>
                  <a:pt x="11515" y="11147"/>
                  <a:pt x="11633" y="11038"/>
                </a:cubicBezTo>
              </a:path>
              <a:path w="6500" h="3697">
                <a:moveTo>
                  <a:pt x="11286" y="11881"/>
                </a:moveTo>
                <a:cubicBezTo>
                  <a:pt x="11219" y="12050"/>
                  <a:pt x="11160" y="12191"/>
                  <a:pt x="11187" y="12378"/>
                </a:cubicBezTo>
                <a:cubicBezTo>
                  <a:pt x="11205" y="12501"/>
                  <a:pt x="11316" y="12494"/>
                  <a:pt x="11410" y="12452"/>
                </a:cubicBezTo>
                <a:cubicBezTo>
                  <a:pt x="11477" y="12422"/>
                  <a:pt x="11654" y="12285"/>
                  <a:pt x="11658" y="12204"/>
                </a:cubicBezTo>
                <a:cubicBezTo>
                  <a:pt x="11636" y="12160"/>
                  <a:pt x="11633" y="12149"/>
                  <a:pt x="11609" y="12129"/>
                </a:cubicBezTo>
                <a:cubicBezTo>
                  <a:pt x="11517" y="12076"/>
                  <a:pt x="11468" y="12135"/>
                  <a:pt x="11435" y="12229"/>
                </a:cubicBezTo>
                <a:cubicBezTo>
                  <a:pt x="11407" y="12307"/>
                  <a:pt x="11410" y="12372"/>
                  <a:pt x="11410" y="12452"/>
                </a:cubicBezTo>
              </a:path>
              <a:path w="6500" h="3697">
                <a:moveTo>
                  <a:pt x="13345" y="10418"/>
                </a:moveTo>
                <a:cubicBezTo>
                  <a:pt x="13585" y="10206"/>
                  <a:pt x="13852" y="10053"/>
                  <a:pt x="14114" y="9872"/>
                </a:cubicBezTo>
                <a:cubicBezTo>
                  <a:pt x="14221" y="9798"/>
                  <a:pt x="14299" y="9749"/>
                  <a:pt x="14412" y="9699"/>
                </a:cubicBezTo>
              </a:path>
              <a:path w="6500" h="3697">
                <a:moveTo>
                  <a:pt x="13519" y="9029"/>
                </a:moveTo>
                <a:cubicBezTo>
                  <a:pt x="13477" y="9171"/>
                  <a:pt x="13447" y="9306"/>
                  <a:pt x="13419" y="9451"/>
                </a:cubicBezTo>
              </a:path>
              <a:path w="6500" h="3697">
                <a:moveTo>
                  <a:pt x="13767" y="8930"/>
                </a:moveTo>
                <a:cubicBezTo>
                  <a:pt x="13889" y="8847"/>
                  <a:pt x="13996" y="8801"/>
                  <a:pt x="14139" y="8781"/>
                </a:cubicBezTo>
                <a:cubicBezTo>
                  <a:pt x="14127" y="8979"/>
                  <a:pt x="14088" y="9159"/>
                  <a:pt x="14039" y="9351"/>
                </a:cubicBezTo>
              </a:path>
              <a:path w="6500" h="3697">
                <a:moveTo>
                  <a:pt x="15280" y="10443"/>
                </a:moveTo>
                <a:cubicBezTo>
                  <a:pt x="15418" y="10417"/>
                  <a:pt x="15576" y="10463"/>
                  <a:pt x="15726" y="10468"/>
                </a:cubicBezTo>
                <a:cubicBezTo>
                  <a:pt x="15743" y="10468"/>
                  <a:pt x="15759" y="10468"/>
                  <a:pt x="15776" y="10468"/>
                </a:cubicBezTo>
              </a:path>
              <a:path w="6500" h="3697">
                <a:moveTo>
                  <a:pt x="15404" y="10840"/>
                </a:moveTo>
                <a:cubicBezTo>
                  <a:pt x="15570" y="10829"/>
                  <a:pt x="15710" y="10831"/>
                  <a:pt x="15875" y="108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2760" y="3160800"/>
            <a:ext cx="2233440" cy="1036440"/>
          </a:xfrm>
          <a:custGeom>
            <a:avLst/>
            <a:gdLst/>
            <a:ahLst/>
            <a:rect l="l" t="t" r="r" b="b"/>
            <a:pathLst>
              <a:path w="6203" h="2878">
                <a:moveTo>
                  <a:pt x="17239" y="9971"/>
                </a:moveTo>
                <a:cubicBezTo>
                  <a:pt x="17181" y="9846"/>
                  <a:pt x="17121" y="9760"/>
                  <a:pt x="17016" y="9674"/>
                </a:cubicBezTo>
                <a:cubicBezTo>
                  <a:pt x="16885" y="9740"/>
                  <a:pt x="16756" y="9906"/>
                  <a:pt x="16842" y="10071"/>
                </a:cubicBezTo>
                <a:cubicBezTo>
                  <a:pt x="16867" y="10079"/>
                  <a:pt x="16892" y="10088"/>
                  <a:pt x="16917" y="10096"/>
                </a:cubicBezTo>
                <a:cubicBezTo>
                  <a:pt x="17077" y="10009"/>
                  <a:pt x="17091" y="9944"/>
                  <a:pt x="17140" y="9773"/>
                </a:cubicBezTo>
                <a:cubicBezTo>
                  <a:pt x="17202" y="9986"/>
                  <a:pt x="17203" y="10148"/>
                  <a:pt x="17190" y="10368"/>
                </a:cubicBezTo>
              </a:path>
              <a:path w="6203" h="2878">
                <a:moveTo>
                  <a:pt x="17413" y="9748"/>
                </a:moveTo>
                <a:cubicBezTo>
                  <a:pt x="17474" y="9696"/>
                  <a:pt x="17760" y="9445"/>
                  <a:pt x="17760" y="9699"/>
                </a:cubicBezTo>
                <a:cubicBezTo>
                  <a:pt x="17760" y="9835"/>
                  <a:pt x="17674" y="9917"/>
                  <a:pt x="17611" y="10021"/>
                </a:cubicBezTo>
                <a:cubicBezTo>
                  <a:pt x="17673" y="9859"/>
                  <a:pt x="17872" y="9863"/>
                  <a:pt x="17859" y="10096"/>
                </a:cubicBezTo>
                <a:cubicBezTo>
                  <a:pt x="17844" y="10374"/>
                  <a:pt x="17642" y="10400"/>
                  <a:pt x="17438" y="10344"/>
                </a:cubicBezTo>
              </a:path>
              <a:path w="6203" h="2878">
                <a:moveTo>
                  <a:pt x="18455" y="9599"/>
                </a:moveTo>
                <a:cubicBezTo>
                  <a:pt x="18369" y="9631"/>
                  <a:pt x="18294" y="9604"/>
                  <a:pt x="18207" y="9624"/>
                </a:cubicBezTo>
                <a:cubicBezTo>
                  <a:pt x="18111" y="9646"/>
                  <a:pt x="18090" y="9867"/>
                  <a:pt x="18058" y="9947"/>
                </a:cubicBezTo>
                <a:cubicBezTo>
                  <a:pt x="18152" y="9899"/>
                  <a:pt x="18337" y="9771"/>
                  <a:pt x="18430" y="9897"/>
                </a:cubicBezTo>
                <a:cubicBezTo>
                  <a:pt x="18574" y="10094"/>
                  <a:pt x="18291" y="10326"/>
                  <a:pt x="18107" y="10294"/>
                </a:cubicBezTo>
                <a:cubicBezTo>
                  <a:pt x="18074" y="10269"/>
                  <a:pt x="18041" y="10245"/>
                  <a:pt x="18008" y="10220"/>
                </a:cubicBezTo>
              </a:path>
              <a:path w="6203" h="2878">
                <a:moveTo>
                  <a:pt x="16892" y="10691"/>
                </a:moveTo>
                <a:cubicBezTo>
                  <a:pt x="17233" y="10666"/>
                  <a:pt x="17588" y="10675"/>
                  <a:pt x="17934" y="10666"/>
                </a:cubicBezTo>
                <a:cubicBezTo>
                  <a:pt x="18144" y="10660"/>
                  <a:pt x="18304" y="10664"/>
                  <a:pt x="18504" y="10616"/>
                </a:cubicBezTo>
              </a:path>
              <a:path w="6203" h="2878">
                <a:moveTo>
                  <a:pt x="17512" y="11162"/>
                </a:moveTo>
                <a:cubicBezTo>
                  <a:pt x="17540" y="11092"/>
                  <a:pt x="17539" y="11086"/>
                  <a:pt x="17587" y="11038"/>
                </a:cubicBezTo>
                <a:cubicBezTo>
                  <a:pt x="17487" y="11005"/>
                  <a:pt x="17277" y="11013"/>
                  <a:pt x="17264" y="11162"/>
                </a:cubicBezTo>
                <a:cubicBezTo>
                  <a:pt x="17252" y="11297"/>
                  <a:pt x="17700" y="11224"/>
                  <a:pt x="17661" y="11460"/>
                </a:cubicBezTo>
                <a:cubicBezTo>
                  <a:pt x="17574" y="11590"/>
                  <a:pt x="17562" y="11630"/>
                  <a:pt x="17462" y="11658"/>
                </a:cubicBezTo>
                <a:cubicBezTo>
                  <a:pt x="17369" y="11445"/>
                  <a:pt x="17483" y="11378"/>
                  <a:pt x="17587" y="11162"/>
                </a:cubicBezTo>
                <a:cubicBezTo>
                  <a:pt x="17595" y="11137"/>
                  <a:pt x="17603" y="11113"/>
                  <a:pt x="17611" y="11088"/>
                </a:cubicBezTo>
              </a:path>
              <a:path w="6203" h="2878">
                <a:moveTo>
                  <a:pt x="17884" y="11038"/>
                </a:moveTo>
                <a:cubicBezTo>
                  <a:pt x="17838" y="11136"/>
                  <a:pt x="17814" y="11229"/>
                  <a:pt x="17785" y="11336"/>
                </a:cubicBezTo>
                <a:cubicBezTo>
                  <a:pt x="17940" y="11352"/>
                  <a:pt x="17988" y="11346"/>
                  <a:pt x="18132" y="11286"/>
                </a:cubicBezTo>
              </a:path>
              <a:path w="6203" h="2878">
                <a:moveTo>
                  <a:pt x="18107" y="10889"/>
                </a:moveTo>
                <a:cubicBezTo>
                  <a:pt x="18107" y="11137"/>
                  <a:pt x="18107" y="11385"/>
                  <a:pt x="18107" y="11633"/>
                </a:cubicBezTo>
              </a:path>
              <a:path w="6203" h="2878">
                <a:moveTo>
                  <a:pt x="19273" y="10542"/>
                </a:moveTo>
                <a:cubicBezTo>
                  <a:pt x="19430" y="10542"/>
                  <a:pt x="19588" y="10542"/>
                  <a:pt x="19745" y="10542"/>
                </a:cubicBezTo>
              </a:path>
              <a:path w="6203" h="2878">
                <a:moveTo>
                  <a:pt x="19447" y="10790"/>
                </a:moveTo>
                <a:cubicBezTo>
                  <a:pt x="19561" y="10785"/>
                  <a:pt x="19656" y="10778"/>
                  <a:pt x="19769" y="10765"/>
                </a:cubicBezTo>
              </a:path>
              <a:path w="6203" h="2878">
                <a:moveTo>
                  <a:pt x="20414" y="10120"/>
                </a:moveTo>
                <a:cubicBezTo>
                  <a:pt x="20414" y="10046"/>
                  <a:pt x="20414" y="10037"/>
                  <a:pt x="20414" y="9996"/>
                </a:cubicBezTo>
                <a:cubicBezTo>
                  <a:pt x="20483" y="10227"/>
                  <a:pt x="20449" y="10526"/>
                  <a:pt x="20414" y="10765"/>
                </a:cubicBezTo>
                <a:cubicBezTo>
                  <a:pt x="20397" y="10883"/>
                  <a:pt x="20337" y="11071"/>
                  <a:pt x="20389" y="10964"/>
                </a:cubicBezTo>
              </a:path>
              <a:path w="6203" h="2878">
                <a:moveTo>
                  <a:pt x="20836" y="10145"/>
                </a:moveTo>
                <a:cubicBezTo>
                  <a:pt x="20914" y="10070"/>
                  <a:pt x="20868" y="10478"/>
                  <a:pt x="20861" y="10567"/>
                </a:cubicBezTo>
                <a:cubicBezTo>
                  <a:pt x="20851" y="10682"/>
                  <a:pt x="20827" y="10779"/>
                  <a:pt x="20811" y="10889"/>
                </a:cubicBezTo>
              </a:path>
              <a:path w="6203" h="2878">
                <a:moveTo>
                  <a:pt x="21481" y="9599"/>
                </a:moveTo>
                <a:cubicBezTo>
                  <a:pt x="21510" y="9772"/>
                  <a:pt x="21502" y="9901"/>
                  <a:pt x="21456" y="10071"/>
                </a:cubicBezTo>
              </a:path>
              <a:path w="6203" h="2878">
                <a:moveTo>
                  <a:pt x="21803" y="9451"/>
                </a:moveTo>
                <a:cubicBezTo>
                  <a:pt x="21827" y="9657"/>
                  <a:pt x="21842" y="9864"/>
                  <a:pt x="21853" y="10071"/>
                </a:cubicBezTo>
              </a:path>
              <a:path w="6203" h="2878">
                <a:moveTo>
                  <a:pt x="21282" y="10368"/>
                </a:moveTo>
                <a:cubicBezTo>
                  <a:pt x="21490" y="10297"/>
                  <a:pt x="21701" y="10230"/>
                  <a:pt x="21903" y="10145"/>
                </a:cubicBezTo>
              </a:path>
              <a:path w="6203" h="2878">
                <a:moveTo>
                  <a:pt x="21580" y="10368"/>
                </a:moveTo>
                <a:cubicBezTo>
                  <a:pt x="21493" y="10403"/>
                  <a:pt x="21306" y="10475"/>
                  <a:pt x="21357" y="10616"/>
                </a:cubicBezTo>
                <a:cubicBezTo>
                  <a:pt x="21384" y="10692"/>
                  <a:pt x="21636" y="10804"/>
                  <a:pt x="21555" y="10914"/>
                </a:cubicBezTo>
                <a:cubicBezTo>
                  <a:pt x="21522" y="10931"/>
                  <a:pt x="21489" y="10947"/>
                  <a:pt x="21456" y="10964"/>
                </a:cubicBezTo>
                <a:cubicBezTo>
                  <a:pt x="21433" y="10767"/>
                  <a:pt x="21474" y="10693"/>
                  <a:pt x="21605" y="10542"/>
                </a:cubicBezTo>
              </a:path>
              <a:path w="6203" h="2878">
                <a:moveTo>
                  <a:pt x="21754" y="10418"/>
                </a:moveTo>
                <a:cubicBezTo>
                  <a:pt x="21777" y="10534"/>
                  <a:pt x="21788" y="10567"/>
                  <a:pt x="21754" y="10641"/>
                </a:cubicBezTo>
                <a:cubicBezTo>
                  <a:pt x="21847" y="10632"/>
                  <a:pt x="21895" y="10611"/>
                  <a:pt x="21977" y="10567"/>
                </a:cubicBezTo>
              </a:path>
              <a:path w="6203" h="2878">
                <a:moveTo>
                  <a:pt x="22051" y="10294"/>
                </a:moveTo>
                <a:cubicBezTo>
                  <a:pt x="21998" y="10510"/>
                  <a:pt x="22002" y="10713"/>
                  <a:pt x="22002" y="10939"/>
                </a:cubicBezTo>
              </a:path>
              <a:path w="6203" h="2878">
                <a:moveTo>
                  <a:pt x="20141" y="11286"/>
                </a:moveTo>
                <a:cubicBezTo>
                  <a:pt x="20358" y="11340"/>
                  <a:pt x="20555" y="11443"/>
                  <a:pt x="20786" y="11460"/>
                </a:cubicBezTo>
                <a:cubicBezTo>
                  <a:pt x="21035" y="11478"/>
                  <a:pt x="21334" y="11409"/>
                  <a:pt x="21580" y="11361"/>
                </a:cubicBezTo>
                <a:cubicBezTo>
                  <a:pt x="21802" y="11318"/>
                  <a:pt x="22070" y="11248"/>
                  <a:pt x="22275" y="11162"/>
                </a:cubicBezTo>
                <a:cubicBezTo>
                  <a:pt x="22433" y="11096"/>
                  <a:pt x="22684" y="10972"/>
                  <a:pt x="22796" y="10840"/>
                </a:cubicBezTo>
                <a:cubicBezTo>
                  <a:pt x="22938" y="10672"/>
                  <a:pt x="23016" y="10410"/>
                  <a:pt x="23044" y="10195"/>
                </a:cubicBezTo>
                <a:cubicBezTo>
                  <a:pt x="23070" y="9996"/>
                  <a:pt x="23034" y="9813"/>
                  <a:pt x="22994" y="9624"/>
                </a:cubicBezTo>
                <a:cubicBezTo>
                  <a:pt x="22956" y="9440"/>
                  <a:pt x="22912" y="9257"/>
                  <a:pt x="22796" y="9103"/>
                </a:cubicBezTo>
                <a:cubicBezTo>
                  <a:pt x="22682" y="8951"/>
                  <a:pt x="22450" y="8873"/>
                  <a:pt x="22275" y="8830"/>
                </a:cubicBezTo>
                <a:cubicBezTo>
                  <a:pt x="22026" y="8769"/>
                  <a:pt x="21851" y="8806"/>
                  <a:pt x="21605" y="8855"/>
                </a:cubicBezTo>
                <a:cubicBezTo>
                  <a:pt x="21331" y="8909"/>
                  <a:pt x="21087" y="8982"/>
                  <a:pt x="20836" y="9103"/>
                </a:cubicBezTo>
                <a:cubicBezTo>
                  <a:pt x="20560" y="9236"/>
                  <a:pt x="20337" y="9405"/>
                  <a:pt x="20191" y="9674"/>
                </a:cubicBezTo>
                <a:cubicBezTo>
                  <a:pt x="20090" y="9860"/>
                  <a:pt x="20010" y="10031"/>
                  <a:pt x="19993" y="10244"/>
                </a:cubicBezTo>
                <a:cubicBezTo>
                  <a:pt x="19977" y="10436"/>
                  <a:pt x="19943" y="10621"/>
                  <a:pt x="19943" y="10815"/>
                </a:cubicBezTo>
                <a:cubicBezTo>
                  <a:pt x="19943" y="11012"/>
                  <a:pt x="19949" y="11174"/>
                  <a:pt x="19993" y="11361"/>
                </a:cubicBezTo>
                <a:cubicBezTo>
                  <a:pt x="20015" y="11473"/>
                  <a:pt x="20016" y="11504"/>
                  <a:pt x="20067" y="115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78080" y="5429160"/>
            <a:ext cx="223920" cy="88920"/>
          </a:xfrm>
          <a:custGeom>
            <a:avLst/>
            <a:gdLst/>
            <a:ahLst/>
            <a:rect l="l" t="t" r="r" b="b"/>
            <a:pathLst>
              <a:path w="622" h="249">
                <a:moveTo>
                  <a:pt x="8830" y="15106"/>
                </a:moveTo>
                <a:cubicBezTo>
                  <a:pt x="8974" y="15106"/>
                  <a:pt x="9109" y="15091"/>
                  <a:pt x="9252" y="15081"/>
                </a:cubicBezTo>
                <a:cubicBezTo>
                  <a:pt x="9337" y="15081"/>
                  <a:pt x="9363" y="15068"/>
                  <a:pt x="9376" y="15131"/>
                </a:cubicBezTo>
              </a:path>
              <a:path w="622" h="249">
                <a:moveTo>
                  <a:pt x="8954" y="15329"/>
                </a:moveTo>
                <a:cubicBezTo>
                  <a:pt x="9121" y="15321"/>
                  <a:pt x="9283" y="15304"/>
                  <a:pt x="9451" y="153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4776840"/>
            <a:ext cx="2036520" cy="1224000"/>
          </a:xfrm>
          <a:custGeom>
            <a:avLst/>
            <a:gdLst/>
            <a:ahLst/>
            <a:rect l="l" t="t" r="r" b="b"/>
            <a:pathLst>
              <a:path w="5657" h="3399">
                <a:moveTo>
                  <a:pt x="11212" y="14635"/>
                </a:moveTo>
                <a:cubicBezTo>
                  <a:pt x="11323" y="14475"/>
                  <a:pt x="11290" y="14379"/>
                  <a:pt x="11212" y="14213"/>
                </a:cubicBezTo>
                <a:cubicBezTo>
                  <a:pt x="11073" y="14244"/>
                  <a:pt x="10723" y="14414"/>
                  <a:pt x="10864" y="14635"/>
                </a:cubicBezTo>
                <a:cubicBezTo>
                  <a:pt x="10980" y="14817"/>
                  <a:pt x="11211" y="14561"/>
                  <a:pt x="11286" y="14486"/>
                </a:cubicBezTo>
                <a:cubicBezTo>
                  <a:pt x="11286" y="14543"/>
                  <a:pt x="11329" y="14960"/>
                  <a:pt x="11261" y="14982"/>
                </a:cubicBezTo>
                <a:cubicBezTo>
                  <a:pt x="11261" y="14965"/>
                  <a:pt x="11261" y="14949"/>
                  <a:pt x="11261" y="14932"/>
                </a:cubicBezTo>
              </a:path>
              <a:path w="5657" h="3399">
                <a:moveTo>
                  <a:pt x="11633" y="14188"/>
                </a:moveTo>
                <a:cubicBezTo>
                  <a:pt x="11582" y="14385"/>
                  <a:pt x="11485" y="14603"/>
                  <a:pt x="11485" y="14808"/>
                </a:cubicBezTo>
                <a:cubicBezTo>
                  <a:pt x="11506" y="14897"/>
                  <a:pt x="11507" y="14923"/>
                  <a:pt x="11559" y="14957"/>
                </a:cubicBezTo>
                <a:cubicBezTo>
                  <a:pt x="11719" y="14925"/>
                  <a:pt x="11920" y="14861"/>
                  <a:pt x="11956" y="14660"/>
                </a:cubicBezTo>
                <a:cubicBezTo>
                  <a:pt x="11931" y="14610"/>
                  <a:pt x="11923" y="14593"/>
                  <a:pt x="11881" y="14585"/>
                </a:cubicBezTo>
                <a:cubicBezTo>
                  <a:pt x="11711" y="14638"/>
                  <a:pt x="11620" y="14759"/>
                  <a:pt x="11633" y="14957"/>
                </a:cubicBezTo>
                <a:cubicBezTo>
                  <a:pt x="11653" y="14998"/>
                  <a:pt x="11651" y="15014"/>
                  <a:pt x="11683" y="15007"/>
                </a:cubicBezTo>
              </a:path>
              <a:path w="5657" h="3399">
                <a:moveTo>
                  <a:pt x="10840" y="15304"/>
                </a:moveTo>
                <a:cubicBezTo>
                  <a:pt x="11022" y="15251"/>
                  <a:pt x="11244" y="15280"/>
                  <a:pt x="11435" y="15280"/>
                </a:cubicBezTo>
                <a:cubicBezTo>
                  <a:pt x="11658" y="15280"/>
                  <a:pt x="11882" y="15280"/>
                  <a:pt x="12105" y="15280"/>
                </a:cubicBezTo>
              </a:path>
              <a:path w="5657" h="3399">
                <a:moveTo>
                  <a:pt x="11212" y="15602"/>
                </a:moveTo>
                <a:cubicBezTo>
                  <a:pt x="11212" y="15533"/>
                  <a:pt x="11203" y="15992"/>
                  <a:pt x="11187" y="16098"/>
                </a:cubicBezTo>
                <a:cubicBezTo>
                  <a:pt x="11170" y="16211"/>
                  <a:pt x="11099" y="16287"/>
                  <a:pt x="11187" y="16098"/>
                </a:cubicBezTo>
              </a:path>
              <a:path w="5657" h="3399">
                <a:moveTo>
                  <a:pt x="11633" y="15602"/>
                </a:moveTo>
                <a:cubicBezTo>
                  <a:pt x="11641" y="15586"/>
                  <a:pt x="11650" y="15569"/>
                  <a:pt x="11658" y="15553"/>
                </a:cubicBezTo>
                <a:cubicBezTo>
                  <a:pt x="11705" y="15708"/>
                  <a:pt x="11683" y="15884"/>
                  <a:pt x="11683" y="16049"/>
                </a:cubicBezTo>
                <a:cubicBezTo>
                  <a:pt x="11683" y="16065"/>
                  <a:pt x="11683" y="16082"/>
                  <a:pt x="11683" y="16098"/>
                </a:cubicBezTo>
              </a:path>
              <a:path w="5657" h="3399">
                <a:moveTo>
                  <a:pt x="12551" y="15032"/>
                </a:moveTo>
                <a:cubicBezTo>
                  <a:pt x="12682" y="15087"/>
                  <a:pt x="12712" y="15361"/>
                  <a:pt x="12774" y="15503"/>
                </a:cubicBezTo>
                <a:cubicBezTo>
                  <a:pt x="12832" y="15619"/>
                  <a:pt x="12840" y="15635"/>
                  <a:pt x="12874" y="15701"/>
                </a:cubicBezTo>
              </a:path>
              <a:path w="5657" h="3399">
                <a:moveTo>
                  <a:pt x="12973" y="14932"/>
                </a:moveTo>
                <a:cubicBezTo>
                  <a:pt x="12854" y="15165"/>
                  <a:pt x="12711" y="15392"/>
                  <a:pt x="12601" y="15627"/>
                </a:cubicBezTo>
              </a:path>
              <a:path w="5657" h="3399">
                <a:moveTo>
                  <a:pt x="13717" y="14213"/>
                </a:moveTo>
                <a:cubicBezTo>
                  <a:pt x="13763" y="14259"/>
                  <a:pt x="13803" y="14223"/>
                  <a:pt x="13915" y="14188"/>
                </a:cubicBezTo>
                <a:cubicBezTo>
                  <a:pt x="14034" y="14424"/>
                  <a:pt x="14077" y="14769"/>
                  <a:pt x="13742" y="14908"/>
                </a:cubicBezTo>
                <a:cubicBezTo>
                  <a:pt x="13630" y="14885"/>
                  <a:pt x="13595" y="14887"/>
                  <a:pt x="13568" y="14808"/>
                </a:cubicBezTo>
                <a:cubicBezTo>
                  <a:pt x="13686" y="14717"/>
                  <a:pt x="13962" y="14618"/>
                  <a:pt x="14114" y="14759"/>
                </a:cubicBezTo>
                <a:cubicBezTo>
                  <a:pt x="14122" y="14792"/>
                  <a:pt x="14131" y="14825"/>
                  <a:pt x="14139" y="14858"/>
                </a:cubicBezTo>
              </a:path>
              <a:path w="5657" h="3399">
                <a:moveTo>
                  <a:pt x="14263" y="14188"/>
                </a:moveTo>
                <a:cubicBezTo>
                  <a:pt x="14318" y="14179"/>
                  <a:pt x="14451" y="14102"/>
                  <a:pt x="14486" y="14163"/>
                </a:cubicBezTo>
                <a:cubicBezTo>
                  <a:pt x="14547" y="14268"/>
                  <a:pt x="14413" y="14322"/>
                  <a:pt x="14362" y="14362"/>
                </a:cubicBezTo>
                <a:cubicBezTo>
                  <a:pt x="14482" y="14371"/>
                  <a:pt x="14706" y="14383"/>
                  <a:pt x="14560" y="14560"/>
                </a:cubicBezTo>
                <a:cubicBezTo>
                  <a:pt x="14466" y="14674"/>
                  <a:pt x="14376" y="14704"/>
                  <a:pt x="14288" y="14660"/>
                </a:cubicBezTo>
              </a:path>
              <a:path w="5657" h="3399">
                <a:moveTo>
                  <a:pt x="14883" y="14089"/>
                </a:moveTo>
                <a:cubicBezTo>
                  <a:pt x="14969" y="14089"/>
                  <a:pt x="15221" y="14044"/>
                  <a:pt x="15180" y="14213"/>
                </a:cubicBezTo>
                <a:cubicBezTo>
                  <a:pt x="15104" y="14315"/>
                  <a:pt x="15076" y="14349"/>
                  <a:pt x="14982" y="14362"/>
                </a:cubicBezTo>
                <a:cubicBezTo>
                  <a:pt x="14974" y="14362"/>
                  <a:pt x="14965" y="14362"/>
                  <a:pt x="14957" y="14362"/>
                </a:cubicBezTo>
                <a:cubicBezTo>
                  <a:pt x="15105" y="14323"/>
                  <a:pt x="15365" y="14350"/>
                  <a:pt x="15156" y="14560"/>
                </a:cubicBezTo>
                <a:cubicBezTo>
                  <a:pt x="15037" y="14632"/>
                  <a:pt x="15002" y="14656"/>
                  <a:pt x="14908" y="14660"/>
                </a:cubicBezTo>
              </a:path>
              <a:path w="5657" h="3399">
                <a:moveTo>
                  <a:pt x="13667" y="15205"/>
                </a:moveTo>
                <a:cubicBezTo>
                  <a:pt x="14089" y="15147"/>
                  <a:pt x="14514" y="15094"/>
                  <a:pt x="14932" y="15007"/>
                </a:cubicBezTo>
                <a:cubicBezTo>
                  <a:pt x="15171" y="14947"/>
                  <a:pt x="15209" y="14922"/>
                  <a:pt x="15354" y="14932"/>
                </a:cubicBezTo>
              </a:path>
              <a:path w="5657" h="3399">
                <a:moveTo>
                  <a:pt x="14015" y="15503"/>
                </a:moveTo>
                <a:cubicBezTo>
                  <a:pt x="14006" y="15623"/>
                  <a:pt x="13987" y="15701"/>
                  <a:pt x="13915" y="15801"/>
                </a:cubicBezTo>
                <a:cubicBezTo>
                  <a:pt x="14083" y="15771"/>
                  <a:pt x="14227" y="15735"/>
                  <a:pt x="14387" y="15677"/>
                </a:cubicBezTo>
              </a:path>
              <a:path w="5657" h="3399">
                <a:moveTo>
                  <a:pt x="14288" y="15404"/>
                </a:moveTo>
                <a:cubicBezTo>
                  <a:pt x="14256" y="15611"/>
                  <a:pt x="14224" y="15816"/>
                  <a:pt x="14213" y="16024"/>
                </a:cubicBezTo>
              </a:path>
              <a:path w="5657" h="3399">
                <a:moveTo>
                  <a:pt x="14585" y="15528"/>
                </a:moveTo>
                <a:cubicBezTo>
                  <a:pt x="14541" y="15693"/>
                  <a:pt x="14517" y="15833"/>
                  <a:pt x="14536" y="15999"/>
                </a:cubicBezTo>
                <a:cubicBezTo>
                  <a:pt x="14724" y="15918"/>
                  <a:pt x="14829" y="15828"/>
                  <a:pt x="14833" y="15602"/>
                </a:cubicBezTo>
                <a:cubicBezTo>
                  <a:pt x="14837" y="15415"/>
                  <a:pt x="14734" y="15423"/>
                  <a:pt x="14610" y="15478"/>
                </a:cubicBezTo>
              </a:path>
              <a:path w="5657" h="3399">
                <a:moveTo>
                  <a:pt x="10988" y="14089"/>
                </a:moveTo>
                <a:cubicBezTo>
                  <a:pt x="10988" y="14072"/>
                  <a:pt x="10988" y="14056"/>
                  <a:pt x="10988" y="14039"/>
                </a:cubicBezTo>
                <a:cubicBezTo>
                  <a:pt x="11069" y="14090"/>
                  <a:pt x="11132" y="14158"/>
                  <a:pt x="11212" y="14213"/>
                </a:cubicBezTo>
                <a:cubicBezTo>
                  <a:pt x="11319" y="14288"/>
                  <a:pt x="11407" y="14382"/>
                  <a:pt x="11509" y="14461"/>
                </a:cubicBezTo>
                <a:cubicBezTo>
                  <a:pt x="11618" y="14546"/>
                  <a:pt x="11659" y="14643"/>
                  <a:pt x="11733" y="14759"/>
                </a:cubicBezTo>
                <a:cubicBezTo>
                  <a:pt x="11785" y="14840"/>
                  <a:pt x="11852" y="14905"/>
                  <a:pt x="11906" y="14982"/>
                </a:cubicBezTo>
                <a:cubicBezTo>
                  <a:pt x="11914" y="14999"/>
                  <a:pt x="11923" y="15015"/>
                  <a:pt x="11931" y="15032"/>
                </a:cubicBezTo>
              </a:path>
              <a:path w="5657" h="3399">
                <a:moveTo>
                  <a:pt x="10889" y="13494"/>
                </a:moveTo>
                <a:cubicBezTo>
                  <a:pt x="10881" y="13510"/>
                  <a:pt x="10872" y="13527"/>
                  <a:pt x="10864" y="13543"/>
                </a:cubicBezTo>
                <a:cubicBezTo>
                  <a:pt x="10864" y="13460"/>
                  <a:pt x="10898" y="13273"/>
                  <a:pt x="11038" y="13395"/>
                </a:cubicBezTo>
                <a:cubicBezTo>
                  <a:pt x="11233" y="13565"/>
                  <a:pt x="11069" y="13850"/>
                  <a:pt x="10889" y="13940"/>
                </a:cubicBezTo>
                <a:cubicBezTo>
                  <a:pt x="10864" y="13940"/>
                  <a:pt x="10840" y="13940"/>
                  <a:pt x="10815" y="13940"/>
                </a:cubicBezTo>
                <a:cubicBezTo>
                  <a:pt x="10785" y="13759"/>
                  <a:pt x="10869" y="13727"/>
                  <a:pt x="11038" y="13791"/>
                </a:cubicBezTo>
                <a:cubicBezTo>
                  <a:pt x="11127" y="13836"/>
                  <a:pt x="11157" y="13842"/>
                  <a:pt x="11162" y="13915"/>
                </a:cubicBezTo>
              </a:path>
              <a:path w="5657" h="3399">
                <a:moveTo>
                  <a:pt x="11212" y="13543"/>
                </a:moveTo>
                <a:cubicBezTo>
                  <a:pt x="11258" y="13624"/>
                  <a:pt x="11313" y="13772"/>
                  <a:pt x="11435" y="13692"/>
                </a:cubicBezTo>
                <a:cubicBezTo>
                  <a:pt x="11460" y="13667"/>
                  <a:pt x="11484" y="13643"/>
                  <a:pt x="11509" y="13618"/>
                </a:cubicBezTo>
              </a:path>
              <a:path w="5657" h="3399">
                <a:moveTo>
                  <a:pt x="11336" y="13271"/>
                </a:moveTo>
                <a:cubicBezTo>
                  <a:pt x="11379" y="13534"/>
                  <a:pt x="11408" y="13815"/>
                  <a:pt x="11509" y="14064"/>
                </a:cubicBezTo>
                <a:cubicBezTo>
                  <a:pt x="11517" y="14072"/>
                  <a:pt x="11526" y="14081"/>
                  <a:pt x="11534" y="14089"/>
                </a:cubicBezTo>
              </a:path>
              <a:path w="5657" h="3399">
                <a:moveTo>
                  <a:pt x="14039" y="15503"/>
                </a:moveTo>
                <a:cubicBezTo>
                  <a:pt x="14270" y="15639"/>
                  <a:pt x="14524" y="15722"/>
                  <a:pt x="14759" y="15850"/>
                </a:cubicBezTo>
                <a:cubicBezTo>
                  <a:pt x="14888" y="15935"/>
                  <a:pt x="14920" y="15951"/>
                  <a:pt x="14982" y="16024"/>
                </a:cubicBezTo>
              </a:path>
              <a:path w="5657" h="3399">
                <a:moveTo>
                  <a:pt x="15106" y="16049"/>
                </a:moveTo>
                <a:cubicBezTo>
                  <a:pt x="15106" y="16227"/>
                  <a:pt x="15061" y="16419"/>
                  <a:pt x="15081" y="16594"/>
                </a:cubicBezTo>
                <a:cubicBezTo>
                  <a:pt x="15089" y="16619"/>
                  <a:pt x="15098" y="16644"/>
                  <a:pt x="15106" y="16669"/>
                </a:cubicBezTo>
              </a:path>
              <a:path w="5657" h="3399">
                <a:moveTo>
                  <a:pt x="15354" y="16024"/>
                </a:moveTo>
                <a:cubicBezTo>
                  <a:pt x="15354" y="16140"/>
                  <a:pt x="15325" y="16289"/>
                  <a:pt x="15379" y="16396"/>
                </a:cubicBezTo>
                <a:cubicBezTo>
                  <a:pt x="15396" y="16413"/>
                  <a:pt x="15412" y="16429"/>
                  <a:pt x="15429" y="16446"/>
                </a:cubicBezTo>
                <a:cubicBezTo>
                  <a:pt x="15579" y="16418"/>
                  <a:pt x="15532" y="16235"/>
                  <a:pt x="15478" y="16098"/>
                </a:cubicBezTo>
                <a:cubicBezTo>
                  <a:pt x="15454" y="16037"/>
                  <a:pt x="15375" y="16091"/>
                  <a:pt x="15329" y="16098"/>
                </a:cubicBezTo>
              </a:path>
              <a:path w="5657" h="3399">
                <a:moveTo>
                  <a:pt x="16098" y="14982"/>
                </a:moveTo>
                <a:cubicBezTo>
                  <a:pt x="16194" y="14943"/>
                  <a:pt x="16266" y="14932"/>
                  <a:pt x="16371" y="14932"/>
                </a:cubicBezTo>
              </a:path>
              <a:path w="5657" h="3399">
                <a:moveTo>
                  <a:pt x="16148" y="15230"/>
                </a:moveTo>
                <a:cubicBezTo>
                  <a:pt x="16258" y="15230"/>
                  <a:pt x="16341" y="15231"/>
                  <a:pt x="16446" y="1525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76960" y="5081760"/>
            <a:ext cx="2206800" cy="714240"/>
          </a:xfrm>
          <a:custGeom>
            <a:avLst/>
            <a:gdLst/>
            <a:ahLst/>
            <a:rect l="l" t="t" r="r" b="b"/>
            <a:pathLst>
              <a:path w="6127" h="1985">
                <a:moveTo>
                  <a:pt x="18008" y="14188"/>
                </a:moveTo>
                <a:cubicBezTo>
                  <a:pt x="17861" y="14188"/>
                  <a:pt x="17661" y="14111"/>
                  <a:pt x="17636" y="14263"/>
                </a:cubicBezTo>
                <a:cubicBezTo>
                  <a:pt x="17624" y="14337"/>
                  <a:pt x="17636" y="14435"/>
                  <a:pt x="17636" y="14511"/>
                </a:cubicBezTo>
                <a:cubicBezTo>
                  <a:pt x="17846" y="14421"/>
                  <a:pt x="17880" y="14370"/>
                  <a:pt x="18058" y="14511"/>
                </a:cubicBezTo>
                <a:cubicBezTo>
                  <a:pt x="17937" y="14742"/>
                  <a:pt x="17809" y="14887"/>
                  <a:pt x="17512" y="14808"/>
                </a:cubicBezTo>
                <a:cubicBezTo>
                  <a:pt x="17487" y="14792"/>
                  <a:pt x="17463" y="14775"/>
                  <a:pt x="17438" y="14759"/>
                </a:cubicBezTo>
              </a:path>
              <a:path w="6127" h="1985">
                <a:moveTo>
                  <a:pt x="18678" y="14213"/>
                </a:moveTo>
                <a:cubicBezTo>
                  <a:pt x="18594" y="14230"/>
                  <a:pt x="18504" y="14169"/>
                  <a:pt x="18430" y="14213"/>
                </a:cubicBezTo>
                <a:cubicBezTo>
                  <a:pt x="18377" y="14244"/>
                  <a:pt x="18372" y="14401"/>
                  <a:pt x="18355" y="14461"/>
                </a:cubicBezTo>
                <a:cubicBezTo>
                  <a:pt x="18451" y="14428"/>
                  <a:pt x="18780" y="14305"/>
                  <a:pt x="18728" y="14560"/>
                </a:cubicBezTo>
                <a:cubicBezTo>
                  <a:pt x="18678" y="14804"/>
                  <a:pt x="18426" y="14778"/>
                  <a:pt x="18281" y="14709"/>
                </a:cubicBezTo>
              </a:path>
              <a:path w="6127" h="1985">
                <a:moveTo>
                  <a:pt x="19224" y="14312"/>
                </a:moveTo>
                <a:cubicBezTo>
                  <a:pt x="19254" y="14220"/>
                  <a:pt x="19202" y="14172"/>
                  <a:pt x="19124" y="14114"/>
                </a:cubicBezTo>
                <a:cubicBezTo>
                  <a:pt x="19009" y="14157"/>
                  <a:pt x="18924" y="14348"/>
                  <a:pt x="18976" y="14486"/>
                </a:cubicBezTo>
                <a:cubicBezTo>
                  <a:pt x="19036" y="14644"/>
                  <a:pt x="19111" y="14307"/>
                  <a:pt x="19199" y="14163"/>
                </a:cubicBezTo>
                <a:cubicBezTo>
                  <a:pt x="19311" y="13979"/>
                  <a:pt x="19224" y="14592"/>
                  <a:pt x="19224" y="14808"/>
                </a:cubicBezTo>
              </a:path>
              <a:path w="6127" h="1985">
                <a:moveTo>
                  <a:pt x="19472" y="14163"/>
                </a:moveTo>
                <a:cubicBezTo>
                  <a:pt x="19704" y="14216"/>
                  <a:pt x="19909" y="14254"/>
                  <a:pt x="19844" y="14560"/>
                </a:cubicBezTo>
                <a:cubicBezTo>
                  <a:pt x="19794" y="14797"/>
                  <a:pt x="19659" y="14740"/>
                  <a:pt x="19496" y="14709"/>
                </a:cubicBezTo>
                <a:cubicBezTo>
                  <a:pt x="19560" y="14492"/>
                  <a:pt x="19703" y="14486"/>
                  <a:pt x="19893" y="14660"/>
                </a:cubicBezTo>
                <a:cubicBezTo>
                  <a:pt x="19918" y="14693"/>
                  <a:pt x="19943" y="14726"/>
                  <a:pt x="19968" y="14759"/>
                </a:cubicBezTo>
              </a:path>
              <a:path w="6127" h="1985">
                <a:moveTo>
                  <a:pt x="17735" y="15304"/>
                </a:moveTo>
                <a:cubicBezTo>
                  <a:pt x="18134" y="15205"/>
                  <a:pt x="18544" y="15171"/>
                  <a:pt x="18951" y="15106"/>
                </a:cubicBezTo>
                <a:cubicBezTo>
                  <a:pt x="19195" y="15067"/>
                  <a:pt x="19454" y="15031"/>
                  <a:pt x="19695" y="14982"/>
                </a:cubicBezTo>
              </a:path>
              <a:path w="6127" h="1985">
                <a:moveTo>
                  <a:pt x="18306" y="15677"/>
                </a:moveTo>
                <a:cubicBezTo>
                  <a:pt x="18292" y="15816"/>
                  <a:pt x="18286" y="15968"/>
                  <a:pt x="18256" y="16098"/>
                </a:cubicBezTo>
              </a:path>
              <a:path w="6127" h="1985">
                <a:moveTo>
                  <a:pt x="18728" y="15503"/>
                </a:moveTo>
                <a:cubicBezTo>
                  <a:pt x="18744" y="15701"/>
                  <a:pt x="18738" y="15881"/>
                  <a:pt x="18678" y="16073"/>
                </a:cubicBezTo>
              </a:path>
              <a:path w="6127" h="1985">
                <a:moveTo>
                  <a:pt x="19149" y="15553"/>
                </a:moveTo>
                <a:cubicBezTo>
                  <a:pt x="19129" y="15764"/>
                  <a:pt x="19107" y="15851"/>
                  <a:pt x="19199" y="16024"/>
                </a:cubicBezTo>
                <a:cubicBezTo>
                  <a:pt x="19394" y="15921"/>
                  <a:pt x="19552" y="15719"/>
                  <a:pt x="19323" y="15503"/>
                </a:cubicBezTo>
                <a:cubicBezTo>
                  <a:pt x="19249" y="15484"/>
                  <a:pt x="19242" y="15476"/>
                  <a:pt x="19199" y="15478"/>
                </a:cubicBezTo>
              </a:path>
              <a:path w="6127" h="1985">
                <a:moveTo>
                  <a:pt x="20216" y="15131"/>
                </a:moveTo>
                <a:cubicBezTo>
                  <a:pt x="20348" y="15131"/>
                  <a:pt x="20481" y="15131"/>
                  <a:pt x="20613" y="15131"/>
                </a:cubicBezTo>
              </a:path>
              <a:path w="6127" h="1985">
                <a:moveTo>
                  <a:pt x="20290" y="15379"/>
                </a:moveTo>
                <a:cubicBezTo>
                  <a:pt x="20410" y="15359"/>
                  <a:pt x="20525" y="15342"/>
                  <a:pt x="20638" y="15304"/>
                </a:cubicBezTo>
              </a:path>
              <a:path w="6127" h="1985">
                <a:moveTo>
                  <a:pt x="21630" y="14858"/>
                </a:moveTo>
                <a:cubicBezTo>
                  <a:pt x="21581" y="14855"/>
                  <a:pt x="21287" y="14789"/>
                  <a:pt x="21282" y="14858"/>
                </a:cubicBezTo>
                <a:cubicBezTo>
                  <a:pt x="21273" y="14972"/>
                  <a:pt x="21293" y="15087"/>
                  <a:pt x="21282" y="15205"/>
                </a:cubicBezTo>
                <a:cubicBezTo>
                  <a:pt x="21310" y="15079"/>
                  <a:pt x="21450" y="14941"/>
                  <a:pt x="21605" y="14982"/>
                </a:cubicBezTo>
                <a:cubicBezTo>
                  <a:pt x="21968" y="15077"/>
                  <a:pt x="21734" y="15514"/>
                  <a:pt x="21506" y="15602"/>
                </a:cubicBezTo>
                <a:cubicBezTo>
                  <a:pt x="21290" y="15685"/>
                  <a:pt x="21233" y="15587"/>
                  <a:pt x="21109" y="15453"/>
                </a:cubicBezTo>
              </a:path>
              <a:path w="6127" h="1985">
                <a:moveTo>
                  <a:pt x="22027" y="14908"/>
                </a:moveTo>
                <a:cubicBezTo>
                  <a:pt x="21982" y="15142"/>
                  <a:pt x="21921" y="15328"/>
                  <a:pt x="21977" y="15553"/>
                </a:cubicBezTo>
                <a:cubicBezTo>
                  <a:pt x="22201" y="15434"/>
                  <a:pt x="22309" y="15285"/>
                  <a:pt x="22175" y="15032"/>
                </a:cubicBezTo>
                <a:cubicBezTo>
                  <a:pt x="22086" y="14920"/>
                  <a:pt x="22067" y="14886"/>
                  <a:pt x="21977" y="14858"/>
                </a:cubicBezTo>
              </a:path>
              <a:path w="6127" h="1985">
                <a:moveTo>
                  <a:pt x="22547" y="14412"/>
                </a:moveTo>
                <a:cubicBezTo>
                  <a:pt x="22536" y="14565"/>
                  <a:pt x="22517" y="14643"/>
                  <a:pt x="22721" y="14585"/>
                </a:cubicBezTo>
                <a:cubicBezTo>
                  <a:pt x="22754" y="14569"/>
                  <a:pt x="22787" y="14552"/>
                  <a:pt x="22820" y="14536"/>
                </a:cubicBezTo>
              </a:path>
              <a:path w="6127" h="1985">
                <a:moveTo>
                  <a:pt x="22771" y="14213"/>
                </a:moveTo>
                <a:cubicBezTo>
                  <a:pt x="22748" y="14444"/>
                  <a:pt x="22735" y="14676"/>
                  <a:pt x="22721" y="14908"/>
                </a:cubicBezTo>
              </a:path>
              <a:path w="6127" h="1985">
                <a:moveTo>
                  <a:pt x="22994" y="14263"/>
                </a:moveTo>
                <a:cubicBezTo>
                  <a:pt x="22949" y="14353"/>
                  <a:pt x="22952" y="14528"/>
                  <a:pt x="22944" y="14635"/>
                </a:cubicBezTo>
                <a:cubicBezTo>
                  <a:pt x="22933" y="14796"/>
                  <a:pt x="22961" y="14947"/>
                  <a:pt x="23168" y="14858"/>
                </a:cubicBezTo>
                <a:cubicBezTo>
                  <a:pt x="23274" y="14812"/>
                  <a:pt x="23320" y="14727"/>
                  <a:pt x="23366" y="14635"/>
                </a:cubicBezTo>
                <a:cubicBezTo>
                  <a:pt x="23191" y="14655"/>
                  <a:pt x="23189" y="14753"/>
                  <a:pt x="23143" y="14908"/>
                </a:cubicBezTo>
              </a:path>
              <a:path w="6127" h="1985">
                <a:moveTo>
                  <a:pt x="22523" y="15255"/>
                </a:moveTo>
                <a:cubicBezTo>
                  <a:pt x="22818" y="15153"/>
                  <a:pt x="23116" y="15089"/>
                  <a:pt x="23416" y="15007"/>
                </a:cubicBezTo>
              </a:path>
              <a:path w="6127" h="1985">
                <a:moveTo>
                  <a:pt x="22895" y="15379"/>
                </a:moveTo>
                <a:cubicBezTo>
                  <a:pt x="22777" y="15418"/>
                  <a:pt x="22693" y="15424"/>
                  <a:pt x="22647" y="15528"/>
                </a:cubicBezTo>
                <a:cubicBezTo>
                  <a:pt x="22608" y="15626"/>
                  <a:pt x="22591" y="15639"/>
                  <a:pt x="22597" y="15701"/>
                </a:cubicBezTo>
                <a:cubicBezTo>
                  <a:pt x="22707" y="15679"/>
                  <a:pt x="22867" y="15561"/>
                  <a:pt x="22969" y="15677"/>
                </a:cubicBezTo>
                <a:cubicBezTo>
                  <a:pt x="23121" y="15850"/>
                  <a:pt x="22775" y="16002"/>
                  <a:pt x="22647" y="15974"/>
                </a:cubicBezTo>
                <a:cubicBezTo>
                  <a:pt x="22630" y="15958"/>
                  <a:pt x="22614" y="15941"/>
                  <a:pt x="22597" y="15925"/>
                </a:cubicBezTo>
              </a:path>
              <a:path w="6127" h="1985">
                <a:moveTo>
                  <a:pt x="23366" y="15304"/>
                </a:moveTo>
                <a:cubicBezTo>
                  <a:pt x="23231" y="15340"/>
                  <a:pt x="23176" y="15323"/>
                  <a:pt x="23118" y="15453"/>
                </a:cubicBezTo>
                <a:cubicBezTo>
                  <a:pt x="23110" y="15478"/>
                  <a:pt x="23101" y="15503"/>
                  <a:pt x="23093" y="15528"/>
                </a:cubicBezTo>
                <a:cubicBezTo>
                  <a:pt x="23169" y="15585"/>
                  <a:pt x="23252" y="15512"/>
                  <a:pt x="23341" y="15503"/>
                </a:cubicBezTo>
                <a:cubicBezTo>
                  <a:pt x="23524" y="15485"/>
                  <a:pt x="23647" y="15614"/>
                  <a:pt x="23490" y="15776"/>
                </a:cubicBezTo>
                <a:cubicBezTo>
                  <a:pt x="23411" y="15858"/>
                  <a:pt x="23309" y="15839"/>
                  <a:pt x="23217" y="158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show your stuff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/8 x 3/y                x=5   y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1/2 x 4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3/x x 6 y/9           x=4  y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5/7 x 3 21/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0960" y="1785960"/>
            <a:ext cx="1581120" cy="849240"/>
          </a:xfrm>
          <a:custGeom>
            <a:avLst/>
            <a:gdLst/>
            <a:ahLst/>
            <a:rect l="l" t="t" r="r" b="b"/>
            <a:pathLst>
              <a:path w="4391" h="2357">
                <a:moveTo>
                  <a:pt x="18182" y="5705"/>
                </a:moveTo>
                <a:cubicBezTo>
                  <a:pt x="18092" y="5675"/>
                  <a:pt x="17982" y="5714"/>
                  <a:pt x="17884" y="5755"/>
                </a:cubicBezTo>
                <a:cubicBezTo>
                  <a:pt x="17798" y="5791"/>
                  <a:pt x="17810" y="5873"/>
                  <a:pt x="17810" y="5953"/>
                </a:cubicBezTo>
                <a:cubicBezTo>
                  <a:pt x="17881" y="5973"/>
                  <a:pt x="18061" y="5893"/>
                  <a:pt x="18107" y="6003"/>
                </a:cubicBezTo>
                <a:cubicBezTo>
                  <a:pt x="18168" y="6147"/>
                  <a:pt x="17993" y="6184"/>
                  <a:pt x="17909" y="6226"/>
                </a:cubicBezTo>
              </a:path>
              <a:path w="4391" h="2357">
                <a:moveTo>
                  <a:pt x="17587" y="6424"/>
                </a:moveTo>
                <a:cubicBezTo>
                  <a:pt x="17786" y="6402"/>
                  <a:pt x="17961" y="6384"/>
                  <a:pt x="18157" y="6400"/>
                </a:cubicBezTo>
              </a:path>
              <a:path w="4391" h="2357">
                <a:moveTo>
                  <a:pt x="17934" y="6598"/>
                </a:moveTo>
                <a:cubicBezTo>
                  <a:pt x="17817" y="6645"/>
                  <a:pt x="17783" y="6658"/>
                  <a:pt x="17711" y="6697"/>
                </a:cubicBezTo>
                <a:cubicBezTo>
                  <a:pt x="17763" y="6781"/>
                  <a:pt x="17981" y="6805"/>
                  <a:pt x="17959" y="6945"/>
                </a:cubicBezTo>
                <a:cubicBezTo>
                  <a:pt x="17911" y="7041"/>
                  <a:pt x="17899" y="7075"/>
                  <a:pt x="17810" y="7045"/>
                </a:cubicBezTo>
                <a:cubicBezTo>
                  <a:pt x="17756" y="6919"/>
                  <a:pt x="17821" y="6839"/>
                  <a:pt x="17884" y="6722"/>
                </a:cubicBezTo>
                <a:cubicBezTo>
                  <a:pt x="17892" y="6705"/>
                  <a:pt x="17901" y="6689"/>
                  <a:pt x="17909" y="6672"/>
                </a:cubicBezTo>
              </a:path>
              <a:path w="4391" h="2357">
                <a:moveTo>
                  <a:pt x="18455" y="6350"/>
                </a:moveTo>
                <a:cubicBezTo>
                  <a:pt x="18502" y="6469"/>
                  <a:pt x="18557" y="6566"/>
                  <a:pt x="18628" y="6672"/>
                </a:cubicBezTo>
              </a:path>
              <a:path w="4391" h="2357">
                <a:moveTo>
                  <a:pt x="18628" y="6474"/>
                </a:moveTo>
                <a:cubicBezTo>
                  <a:pt x="18586" y="6623"/>
                  <a:pt x="18576" y="6655"/>
                  <a:pt x="18554" y="6747"/>
                </a:cubicBezTo>
              </a:path>
              <a:path w="4391" h="2357">
                <a:moveTo>
                  <a:pt x="19174" y="5631"/>
                </a:moveTo>
                <a:cubicBezTo>
                  <a:pt x="19250" y="5587"/>
                  <a:pt x="19309" y="5553"/>
                  <a:pt x="19397" y="5531"/>
                </a:cubicBezTo>
                <a:cubicBezTo>
                  <a:pt x="19344" y="5644"/>
                  <a:pt x="19293" y="5710"/>
                  <a:pt x="19199" y="5804"/>
                </a:cubicBezTo>
                <a:cubicBezTo>
                  <a:pt x="19329" y="5789"/>
                  <a:pt x="19654" y="5811"/>
                  <a:pt x="19372" y="6003"/>
                </a:cubicBezTo>
                <a:cubicBezTo>
                  <a:pt x="19242" y="6046"/>
                  <a:pt x="19211" y="6062"/>
                  <a:pt x="19124" y="6052"/>
                </a:cubicBezTo>
              </a:path>
              <a:path w="4391" h="2357">
                <a:moveTo>
                  <a:pt x="19000" y="6350"/>
                </a:moveTo>
                <a:cubicBezTo>
                  <a:pt x="19183" y="6340"/>
                  <a:pt x="19363" y="6310"/>
                  <a:pt x="19546" y="6300"/>
                </a:cubicBezTo>
              </a:path>
              <a:path w="4391" h="2357">
                <a:moveTo>
                  <a:pt x="19025" y="6772"/>
                </a:moveTo>
                <a:cubicBezTo>
                  <a:pt x="19161" y="6708"/>
                  <a:pt x="19272" y="6661"/>
                  <a:pt x="19422" y="6648"/>
                </a:cubicBezTo>
                <a:cubicBezTo>
                  <a:pt x="19394" y="6844"/>
                  <a:pt x="19307" y="6964"/>
                  <a:pt x="19224" y="7144"/>
                </a:cubicBezTo>
              </a:path>
              <a:path w="4391" h="2357">
                <a:moveTo>
                  <a:pt x="19720" y="6449"/>
                </a:moveTo>
                <a:cubicBezTo>
                  <a:pt x="19820" y="6449"/>
                  <a:pt x="19854" y="6449"/>
                  <a:pt x="19918" y="6424"/>
                </a:cubicBezTo>
              </a:path>
              <a:path w="4391" h="2357">
                <a:moveTo>
                  <a:pt x="19769" y="6573"/>
                </a:moveTo>
                <a:cubicBezTo>
                  <a:pt x="19856" y="6573"/>
                  <a:pt x="19891" y="6568"/>
                  <a:pt x="19943" y="6524"/>
                </a:cubicBezTo>
              </a:path>
              <a:path w="4391" h="2357">
                <a:moveTo>
                  <a:pt x="20340" y="5507"/>
                </a:moveTo>
                <a:cubicBezTo>
                  <a:pt x="20386" y="5720"/>
                  <a:pt x="20414" y="5909"/>
                  <a:pt x="20414" y="6127"/>
                </a:cubicBezTo>
              </a:path>
              <a:path w="4391" h="2357">
                <a:moveTo>
                  <a:pt x="20861" y="5432"/>
                </a:moveTo>
                <a:cubicBezTo>
                  <a:pt x="20840" y="5436"/>
                  <a:pt x="20672" y="5469"/>
                  <a:pt x="20662" y="5482"/>
                </a:cubicBezTo>
                <a:cubicBezTo>
                  <a:pt x="20636" y="5516"/>
                  <a:pt x="20642" y="5636"/>
                  <a:pt x="20638" y="5680"/>
                </a:cubicBezTo>
                <a:cubicBezTo>
                  <a:pt x="20760" y="5659"/>
                  <a:pt x="20856" y="5541"/>
                  <a:pt x="20985" y="5556"/>
                </a:cubicBezTo>
                <a:cubicBezTo>
                  <a:pt x="21213" y="5583"/>
                  <a:pt x="21001" y="5876"/>
                  <a:pt x="20910" y="5928"/>
                </a:cubicBezTo>
                <a:cubicBezTo>
                  <a:pt x="20877" y="5936"/>
                  <a:pt x="20844" y="5945"/>
                  <a:pt x="20811" y="5953"/>
                </a:cubicBezTo>
              </a:path>
              <a:path w="4391" h="2357">
                <a:moveTo>
                  <a:pt x="20265" y="6300"/>
                </a:moveTo>
                <a:cubicBezTo>
                  <a:pt x="20505" y="6250"/>
                  <a:pt x="20739" y="6213"/>
                  <a:pt x="20985" y="6201"/>
                </a:cubicBezTo>
              </a:path>
              <a:path w="4391" h="2357">
                <a:moveTo>
                  <a:pt x="20588" y="6524"/>
                </a:moveTo>
                <a:cubicBezTo>
                  <a:pt x="20470" y="6568"/>
                  <a:pt x="20407" y="6587"/>
                  <a:pt x="20315" y="6672"/>
                </a:cubicBezTo>
                <a:cubicBezTo>
                  <a:pt x="20307" y="6680"/>
                  <a:pt x="20298" y="6689"/>
                  <a:pt x="20290" y="6697"/>
                </a:cubicBezTo>
                <a:cubicBezTo>
                  <a:pt x="20386" y="6697"/>
                  <a:pt x="20591" y="6652"/>
                  <a:pt x="20662" y="6722"/>
                </a:cubicBezTo>
                <a:cubicBezTo>
                  <a:pt x="20845" y="6905"/>
                  <a:pt x="20427" y="6903"/>
                  <a:pt x="20365" y="6896"/>
                </a:cubicBezTo>
              </a:path>
              <a:path w="4391" h="2357">
                <a:moveTo>
                  <a:pt x="20836" y="6449"/>
                </a:moveTo>
                <a:cubicBezTo>
                  <a:pt x="20836" y="6599"/>
                  <a:pt x="20776" y="6839"/>
                  <a:pt x="20910" y="6945"/>
                </a:cubicBezTo>
                <a:cubicBezTo>
                  <a:pt x="20943" y="6953"/>
                  <a:pt x="20977" y="6962"/>
                  <a:pt x="21010" y="6970"/>
                </a:cubicBezTo>
                <a:cubicBezTo>
                  <a:pt x="21172" y="6863"/>
                  <a:pt x="21183" y="6869"/>
                  <a:pt x="21183" y="6672"/>
                </a:cubicBezTo>
                <a:cubicBezTo>
                  <a:pt x="20995" y="6689"/>
                  <a:pt x="21003" y="6856"/>
                  <a:pt x="20960" y="7045"/>
                </a:cubicBezTo>
              </a:path>
              <a:path w="4391" h="2357">
                <a:moveTo>
                  <a:pt x="20191" y="7293"/>
                </a:moveTo>
                <a:cubicBezTo>
                  <a:pt x="20468" y="7317"/>
                  <a:pt x="20758" y="7348"/>
                  <a:pt x="21034" y="7293"/>
                </a:cubicBezTo>
                <a:cubicBezTo>
                  <a:pt x="21315" y="7237"/>
                  <a:pt x="21625" y="7016"/>
                  <a:pt x="21803" y="6796"/>
                </a:cubicBezTo>
                <a:cubicBezTo>
                  <a:pt x="21969" y="6591"/>
                  <a:pt x="21976" y="6347"/>
                  <a:pt x="21952" y="6102"/>
                </a:cubicBezTo>
                <a:cubicBezTo>
                  <a:pt x="21932" y="5900"/>
                  <a:pt x="21929" y="5607"/>
                  <a:pt x="21803" y="5432"/>
                </a:cubicBezTo>
                <a:cubicBezTo>
                  <a:pt x="21671" y="5248"/>
                  <a:pt x="21508" y="5166"/>
                  <a:pt x="21307" y="5085"/>
                </a:cubicBezTo>
                <a:cubicBezTo>
                  <a:pt x="20978" y="4952"/>
                  <a:pt x="20548" y="4870"/>
                  <a:pt x="20241" y="5110"/>
                </a:cubicBezTo>
                <a:cubicBezTo>
                  <a:pt x="20055" y="5256"/>
                  <a:pt x="19985" y="5424"/>
                  <a:pt x="19968" y="5655"/>
                </a:cubicBezTo>
                <a:cubicBezTo>
                  <a:pt x="19950" y="5905"/>
                  <a:pt x="19959" y="6186"/>
                  <a:pt x="20042" y="6424"/>
                </a:cubicBezTo>
                <a:cubicBezTo>
                  <a:pt x="20130" y="6676"/>
                  <a:pt x="20237" y="6855"/>
                  <a:pt x="20439" y="70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13320" y="3276720"/>
            <a:ext cx="660600" cy="625320"/>
          </a:xfrm>
          <a:custGeom>
            <a:avLst/>
            <a:gdLst/>
            <a:ahLst/>
            <a:rect l="l" t="t" r="r" b="b"/>
            <a:pathLst>
              <a:path w="1836" h="1738">
                <a:moveTo>
                  <a:pt x="19149" y="10195"/>
                </a:moveTo>
                <a:cubicBezTo>
                  <a:pt x="19191" y="10311"/>
                  <a:pt x="19228" y="10429"/>
                  <a:pt x="19273" y="10542"/>
                </a:cubicBezTo>
              </a:path>
              <a:path w="1836" h="1738">
                <a:moveTo>
                  <a:pt x="19372" y="10096"/>
                </a:moveTo>
                <a:cubicBezTo>
                  <a:pt x="19298" y="10245"/>
                  <a:pt x="19224" y="10393"/>
                  <a:pt x="19149" y="10542"/>
                </a:cubicBezTo>
              </a:path>
              <a:path w="1836" h="1738">
                <a:moveTo>
                  <a:pt x="18058" y="9699"/>
                </a:moveTo>
                <a:cubicBezTo>
                  <a:pt x="17917" y="9711"/>
                  <a:pt x="17866" y="9721"/>
                  <a:pt x="17735" y="9674"/>
                </a:cubicBezTo>
                <a:cubicBezTo>
                  <a:pt x="17710" y="9838"/>
                  <a:pt x="17697" y="10004"/>
                  <a:pt x="17686" y="10170"/>
                </a:cubicBezTo>
                <a:cubicBezTo>
                  <a:pt x="17853" y="10151"/>
                  <a:pt x="18043" y="10055"/>
                  <a:pt x="18182" y="10195"/>
                </a:cubicBezTo>
                <a:cubicBezTo>
                  <a:pt x="18347" y="10360"/>
                  <a:pt x="18079" y="10583"/>
                  <a:pt x="17934" y="10616"/>
                </a:cubicBezTo>
                <a:cubicBezTo>
                  <a:pt x="17752" y="10657"/>
                  <a:pt x="17663" y="10569"/>
                  <a:pt x="17537" y="10468"/>
                </a:cubicBezTo>
              </a:path>
              <a:path w="1836" h="1738">
                <a:moveTo>
                  <a:pt x="18579" y="9624"/>
                </a:moveTo>
                <a:cubicBezTo>
                  <a:pt x="18578" y="9509"/>
                  <a:pt x="18678" y="9494"/>
                  <a:pt x="18802" y="9475"/>
                </a:cubicBezTo>
                <a:cubicBezTo>
                  <a:pt x="18831" y="9621"/>
                  <a:pt x="18776" y="9662"/>
                  <a:pt x="18653" y="9748"/>
                </a:cubicBezTo>
                <a:cubicBezTo>
                  <a:pt x="18746" y="9769"/>
                  <a:pt x="18962" y="9879"/>
                  <a:pt x="18752" y="9971"/>
                </a:cubicBezTo>
                <a:cubicBezTo>
                  <a:pt x="18619" y="9993"/>
                  <a:pt x="18585" y="10006"/>
                  <a:pt x="18504" y="9971"/>
                </a:cubicBezTo>
              </a:path>
              <a:path w="1836" h="1738">
                <a:moveTo>
                  <a:pt x="18653" y="10195"/>
                </a:moveTo>
                <a:cubicBezTo>
                  <a:pt x="18785" y="10195"/>
                  <a:pt x="18818" y="10195"/>
                  <a:pt x="18901" y="10195"/>
                </a:cubicBezTo>
              </a:path>
              <a:path w="1836" h="1738">
                <a:moveTo>
                  <a:pt x="18529" y="10294"/>
                </a:moveTo>
                <a:cubicBezTo>
                  <a:pt x="18512" y="10361"/>
                  <a:pt x="18461" y="10501"/>
                  <a:pt x="18579" y="10517"/>
                </a:cubicBezTo>
                <a:cubicBezTo>
                  <a:pt x="18629" y="10517"/>
                  <a:pt x="18678" y="10517"/>
                  <a:pt x="18728" y="10517"/>
                </a:cubicBezTo>
              </a:path>
              <a:path w="1836" h="1738">
                <a:moveTo>
                  <a:pt x="18852" y="10294"/>
                </a:moveTo>
                <a:cubicBezTo>
                  <a:pt x="18807" y="10460"/>
                  <a:pt x="18784" y="10619"/>
                  <a:pt x="18777" y="10790"/>
                </a:cubicBezTo>
                <a:cubicBezTo>
                  <a:pt x="18777" y="10798"/>
                  <a:pt x="18777" y="10807"/>
                  <a:pt x="18777" y="10815"/>
                </a:cubicBezTo>
              </a:path>
              <a:path w="1836" h="1738">
                <a:moveTo>
                  <a:pt x="18281" y="10691"/>
                </a:moveTo>
                <a:cubicBezTo>
                  <a:pt x="18347" y="10724"/>
                  <a:pt x="18372" y="10749"/>
                  <a:pt x="18380" y="10815"/>
                </a:cubicBezTo>
              </a:path>
              <a:path w="1836" h="1738">
                <a:moveTo>
                  <a:pt x="18380" y="10691"/>
                </a:moveTo>
                <a:cubicBezTo>
                  <a:pt x="18317" y="10776"/>
                  <a:pt x="18304" y="10796"/>
                  <a:pt x="18256" y="10840"/>
                </a:cubicBezTo>
              </a:path>
              <a:path w="1836" h="1738">
                <a:moveTo>
                  <a:pt x="18554" y="9103"/>
                </a:moveTo>
                <a:cubicBezTo>
                  <a:pt x="18546" y="9136"/>
                  <a:pt x="18537" y="9170"/>
                  <a:pt x="18529" y="9203"/>
                </a:cubicBezTo>
              </a:path>
              <a:path w="1836" h="1738">
                <a:moveTo>
                  <a:pt x="18529" y="9203"/>
                </a:moveTo>
                <a:lnTo>
                  <a:pt x="18529" y="920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34120" y="3473280"/>
            <a:ext cx="162000" cy="322560"/>
          </a:xfrm>
          <a:custGeom>
            <a:avLst/>
            <a:gdLst/>
            <a:ahLst/>
            <a:rect l="l" t="t" r="r" b="b"/>
            <a:pathLst>
              <a:path w="447" h="894">
                <a:moveTo>
                  <a:pt x="19968" y="9649"/>
                </a:moveTo>
                <a:cubicBezTo>
                  <a:pt x="19919" y="9865"/>
                  <a:pt x="19885" y="10077"/>
                  <a:pt x="19844" y="10294"/>
                </a:cubicBezTo>
                <a:cubicBezTo>
                  <a:pt x="19813" y="10459"/>
                  <a:pt x="19803" y="10563"/>
                  <a:pt x="20017" y="10542"/>
                </a:cubicBezTo>
                <a:cubicBezTo>
                  <a:pt x="20154" y="10529"/>
                  <a:pt x="20233" y="10403"/>
                  <a:pt x="20265" y="10294"/>
                </a:cubicBezTo>
                <a:cubicBezTo>
                  <a:pt x="20187" y="10242"/>
                  <a:pt x="20068" y="10215"/>
                  <a:pt x="20017" y="10344"/>
                </a:cubicBezTo>
                <a:cubicBezTo>
                  <a:pt x="19996" y="10397"/>
                  <a:pt x="20023" y="10448"/>
                  <a:pt x="20042" y="104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12040" y="3330720"/>
            <a:ext cx="125280" cy="420480"/>
          </a:xfrm>
          <a:custGeom>
            <a:avLst/>
            <a:gdLst/>
            <a:ahLst/>
            <a:rect l="l" t="t" r="r" b="b"/>
            <a:pathLst>
              <a:path w="348" h="1167">
                <a:moveTo>
                  <a:pt x="20861" y="9252"/>
                </a:moveTo>
                <a:cubicBezTo>
                  <a:pt x="20762" y="9281"/>
                  <a:pt x="20679" y="9306"/>
                  <a:pt x="20588" y="9351"/>
                </a:cubicBezTo>
                <a:cubicBezTo>
                  <a:pt x="20632" y="9440"/>
                  <a:pt x="20817" y="9551"/>
                  <a:pt x="20786" y="9674"/>
                </a:cubicBezTo>
                <a:cubicBezTo>
                  <a:pt x="20718" y="9742"/>
                  <a:pt x="20702" y="9764"/>
                  <a:pt x="20638" y="9773"/>
                </a:cubicBezTo>
                <a:cubicBezTo>
                  <a:pt x="20662" y="9600"/>
                  <a:pt x="20751" y="9480"/>
                  <a:pt x="20836" y="9327"/>
                </a:cubicBezTo>
              </a:path>
              <a:path w="348" h="1167">
                <a:moveTo>
                  <a:pt x="20588" y="9897"/>
                </a:moveTo>
                <a:cubicBezTo>
                  <a:pt x="20705" y="9890"/>
                  <a:pt x="20817" y="9878"/>
                  <a:pt x="20935" y="9872"/>
                </a:cubicBezTo>
              </a:path>
              <a:path w="348" h="1167">
                <a:moveTo>
                  <a:pt x="20935" y="10145"/>
                </a:moveTo>
                <a:cubicBezTo>
                  <a:pt x="20893" y="10039"/>
                  <a:pt x="20833" y="9970"/>
                  <a:pt x="20712" y="10071"/>
                </a:cubicBezTo>
                <a:cubicBezTo>
                  <a:pt x="20653" y="10150"/>
                  <a:pt x="20628" y="10159"/>
                  <a:pt x="20638" y="10220"/>
                </a:cubicBezTo>
                <a:cubicBezTo>
                  <a:pt x="20758" y="10205"/>
                  <a:pt x="20878" y="10096"/>
                  <a:pt x="20886" y="10220"/>
                </a:cubicBezTo>
                <a:cubicBezTo>
                  <a:pt x="20886" y="10329"/>
                  <a:pt x="20891" y="10356"/>
                  <a:pt x="20861" y="104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02760" y="2768760"/>
            <a:ext cx="563400" cy="1500120"/>
          </a:xfrm>
          <a:custGeom>
            <a:avLst/>
            <a:gdLst/>
            <a:ahLst/>
            <a:rect l="l" t="t" r="r" b="b"/>
            <a:pathLst>
              <a:path w="1564" h="4169">
                <a:moveTo>
                  <a:pt x="23812" y="7789"/>
                </a:moveTo>
                <a:cubicBezTo>
                  <a:pt x="23943" y="7730"/>
                  <a:pt x="23992" y="7699"/>
                  <a:pt x="24110" y="7739"/>
                </a:cubicBezTo>
                <a:cubicBezTo>
                  <a:pt x="24057" y="7860"/>
                  <a:pt x="24020" y="7904"/>
                  <a:pt x="23912" y="7987"/>
                </a:cubicBezTo>
                <a:cubicBezTo>
                  <a:pt x="24028" y="7987"/>
                  <a:pt x="24212" y="8006"/>
                  <a:pt x="24085" y="8161"/>
                </a:cubicBezTo>
                <a:cubicBezTo>
                  <a:pt x="23975" y="8295"/>
                  <a:pt x="23866" y="8228"/>
                  <a:pt x="23738" y="8186"/>
                </a:cubicBezTo>
              </a:path>
              <a:path w="1564" h="4169">
                <a:moveTo>
                  <a:pt x="24358" y="7689"/>
                </a:moveTo>
                <a:cubicBezTo>
                  <a:pt x="24396" y="7883"/>
                  <a:pt x="24458" y="8067"/>
                  <a:pt x="24433" y="8260"/>
                </a:cubicBezTo>
              </a:path>
              <a:path w="1564" h="4169">
                <a:moveTo>
                  <a:pt x="23440" y="8632"/>
                </a:moveTo>
                <a:cubicBezTo>
                  <a:pt x="23488" y="8798"/>
                  <a:pt x="23502" y="8848"/>
                  <a:pt x="23540" y="8954"/>
                </a:cubicBezTo>
              </a:path>
              <a:path w="1564" h="4169">
                <a:moveTo>
                  <a:pt x="23589" y="8706"/>
                </a:moveTo>
                <a:cubicBezTo>
                  <a:pt x="23548" y="8764"/>
                  <a:pt x="23506" y="8822"/>
                  <a:pt x="23465" y="8880"/>
                </a:cubicBezTo>
              </a:path>
              <a:path w="1564" h="4169">
                <a:moveTo>
                  <a:pt x="23986" y="8582"/>
                </a:moveTo>
                <a:cubicBezTo>
                  <a:pt x="24027" y="8582"/>
                  <a:pt x="24069" y="8582"/>
                  <a:pt x="24110" y="8582"/>
                </a:cubicBezTo>
                <a:cubicBezTo>
                  <a:pt x="24163" y="8741"/>
                  <a:pt x="24160" y="8939"/>
                  <a:pt x="23937" y="8979"/>
                </a:cubicBezTo>
                <a:cubicBezTo>
                  <a:pt x="23912" y="8971"/>
                  <a:pt x="23887" y="8962"/>
                  <a:pt x="23862" y="8954"/>
                </a:cubicBezTo>
                <a:cubicBezTo>
                  <a:pt x="23933" y="8856"/>
                  <a:pt x="24050" y="8871"/>
                  <a:pt x="24185" y="8905"/>
                </a:cubicBezTo>
              </a:path>
              <a:path w="1564" h="4169">
                <a:moveTo>
                  <a:pt x="24333" y="8607"/>
                </a:moveTo>
                <a:cubicBezTo>
                  <a:pt x="24413" y="8576"/>
                  <a:pt x="24675" y="8575"/>
                  <a:pt x="24482" y="8706"/>
                </a:cubicBezTo>
                <a:cubicBezTo>
                  <a:pt x="24449" y="8714"/>
                  <a:pt x="24416" y="8723"/>
                  <a:pt x="24383" y="8731"/>
                </a:cubicBezTo>
                <a:cubicBezTo>
                  <a:pt x="24530" y="8778"/>
                  <a:pt x="24555" y="8775"/>
                  <a:pt x="24631" y="8905"/>
                </a:cubicBezTo>
                <a:cubicBezTo>
                  <a:pt x="24477" y="8990"/>
                  <a:pt x="24436" y="8996"/>
                  <a:pt x="24259" y="8979"/>
                </a:cubicBezTo>
              </a:path>
              <a:path w="1564" h="4169">
                <a:moveTo>
                  <a:pt x="23589" y="9351"/>
                </a:moveTo>
                <a:cubicBezTo>
                  <a:pt x="23995" y="9344"/>
                  <a:pt x="24399" y="9327"/>
                  <a:pt x="24805" y="9327"/>
                </a:cubicBezTo>
              </a:path>
              <a:path w="1564" h="4169">
                <a:moveTo>
                  <a:pt x="24557" y="9649"/>
                </a:moveTo>
                <a:cubicBezTo>
                  <a:pt x="24594" y="9636"/>
                  <a:pt x="24883" y="9506"/>
                  <a:pt x="24829" y="9624"/>
                </a:cubicBezTo>
                <a:cubicBezTo>
                  <a:pt x="24755" y="9723"/>
                  <a:pt x="24730" y="9756"/>
                  <a:pt x="24656" y="9798"/>
                </a:cubicBezTo>
                <a:cubicBezTo>
                  <a:pt x="24776" y="9808"/>
                  <a:pt x="24961" y="9889"/>
                  <a:pt x="24805" y="10046"/>
                </a:cubicBezTo>
                <a:cubicBezTo>
                  <a:pt x="24695" y="10156"/>
                  <a:pt x="24549" y="10100"/>
                  <a:pt x="24433" y="10071"/>
                </a:cubicBezTo>
              </a:path>
              <a:path w="1564" h="4169">
                <a:moveTo>
                  <a:pt x="24209" y="9798"/>
                </a:moveTo>
                <a:cubicBezTo>
                  <a:pt x="24232" y="9659"/>
                  <a:pt x="24215" y="9633"/>
                  <a:pt x="24085" y="9575"/>
                </a:cubicBezTo>
                <a:cubicBezTo>
                  <a:pt x="24009" y="9659"/>
                  <a:pt x="23889" y="9897"/>
                  <a:pt x="24135" y="9897"/>
                </a:cubicBezTo>
                <a:cubicBezTo>
                  <a:pt x="24271" y="9897"/>
                  <a:pt x="24259" y="9762"/>
                  <a:pt x="24259" y="9674"/>
                </a:cubicBezTo>
                <a:cubicBezTo>
                  <a:pt x="24248" y="9869"/>
                  <a:pt x="24201" y="10053"/>
                  <a:pt x="24185" y="10244"/>
                </a:cubicBezTo>
                <a:cubicBezTo>
                  <a:pt x="24185" y="10252"/>
                  <a:pt x="24185" y="10261"/>
                  <a:pt x="24185" y="10269"/>
                </a:cubicBezTo>
              </a:path>
              <a:path w="1564" h="4169">
                <a:moveTo>
                  <a:pt x="24755" y="10344"/>
                </a:moveTo>
                <a:cubicBezTo>
                  <a:pt x="24668" y="10499"/>
                  <a:pt x="24568" y="10617"/>
                  <a:pt x="24581" y="10790"/>
                </a:cubicBezTo>
                <a:cubicBezTo>
                  <a:pt x="24733" y="10837"/>
                  <a:pt x="24888" y="10771"/>
                  <a:pt x="24904" y="10567"/>
                </a:cubicBezTo>
                <a:cubicBezTo>
                  <a:pt x="24884" y="10490"/>
                  <a:pt x="24892" y="10472"/>
                  <a:pt x="24854" y="10443"/>
                </a:cubicBezTo>
              </a:path>
              <a:path w="1564" h="4169">
                <a:moveTo>
                  <a:pt x="24185" y="10443"/>
                </a:moveTo>
                <a:cubicBezTo>
                  <a:pt x="24290" y="10369"/>
                  <a:pt x="24304" y="10377"/>
                  <a:pt x="24433" y="10393"/>
                </a:cubicBezTo>
                <a:cubicBezTo>
                  <a:pt x="24460" y="10631"/>
                  <a:pt x="24422" y="10692"/>
                  <a:pt x="24185" y="10765"/>
                </a:cubicBezTo>
                <a:cubicBezTo>
                  <a:pt x="24144" y="10773"/>
                  <a:pt x="24102" y="10782"/>
                  <a:pt x="24061" y="10790"/>
                </a:cubicBezTo>
                <a:cubicBezTo>
                  <a:pt x="24079" y="10701"/>
                  <a:pt x="24158" y="10586"/>
                  <a:pt x="24284" y="10666"/>
                </a:cubicBezTo>
                <a:cubicBezTo>
                  <a:pt x="24331" y="10737"/>
                  <a:pt x="24347" y="10759"/>
                  <a:pt x="24358" y="10815"/>
                </a:cubicBezTo>
              </a:path>
              <a:path w="1564" h="4169">
                <a:moveTo>
                  <a:pt x="23341" y="10964"/>
                </a:moveTo>
                <a:cubicBezTo>
                  <a:pt x="23736" y="11016"/>
                  <a:pt x="24132" y="11031"/>
                  <a:pt x="24532" y="11038"/>
                </a:cubicBezTo>
                <a:cubicBezTo>
                  <a:pt x="24565" y="11038"/>
                  <a:pt x="24598" y="11038"/>
                  <a:pt x="24631" y="11038"/>
                </a:cubicBezTo>
              </a:path>
              <a:path w="1564" h="4169">
                <a:moveTo>
                  <a:pt x="24631" y="11385"/>
                </a:moveTo>
                <a:cubicBezTo>
                  <a:pt x="24665" y="11375"/>
                  <a:pt x="24996" y="11298"/>
                  <a:pt x="24904" y="11460"/>
                </a:cubicBezTo>
                <a:cubicBezTo>
                  <a:pt x="24812" y="11552"/>
                  <a:pt x="24787" y="11581"/>
                  <a:pt x="24705" y="11609"/>
                </a:cubicBezTo>
                <a:cubicBezTo>
                  <a:pt x="24689" y="11617"/>
                  <a:pt x="24672" y="11625"/>
                  <a:pt x="24656" y="11633"/>
                </a:cubicBezTo>
                <a:cubicBezTo>
                  <a:pt x="24742" y="11639"/>
                  <a:pt x="24987" y="11686"/>
                  <a:pt x="24805" y="11832"/>
                </a:cubicBezTo>
                <a:cubicBezTo>
                  <a:pt x="24727" y="11894"/>
                  <a:pt x="24589" y="11847"/>
                  <a:pt x="24507" y="11832"/>
                </a:cubicBezTo>
              </a:path>
              <a:path w="1564" h="4169">
                <a:moveTo>
                  <a:pt x="24284" y="11311"/>
                </a:moveTo>
                <a:cubicBezTo>
                  <a:pt x="24276" y="11461"/>
                  <a:pt x="24259" y="11607"/>
                  <a:pt x="24259" y="117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38960" y="3741840"/>
            <a:ext cx="1571400" cy="893520"/>
          </a:xfrm>
          <a:custGeom>
            <a:avLst/>
            <a:gdLst/>
            <a:ahLst/>
            <a:rect l="l" t="t" r="r" b="b"/>
            <a:pathLst>
              <a:path w="4367" h="2482">
                <a:moveTo>
                  <a:pt x="18355" y="11385"/>
                </a:moveTo>
                <a:cubicBezTo>
                  <a:pt x="18457" y="11474"/>
                  <a:pt x="18544" y="11649"/>
                  <a:pt x="18430" y="11782"/>
                </a:cubicBezTo>
                <a:cubicBezTo>
                  <a:pt x="18303" y="11866"/>
                  <a:pt x="18280" y="11899"/>
                  <a:pt x="18182" y="11881"/>
                </a:cubicBezTo>
                <a:cubicBezTo>
                  <a:pt x="18181" y="11745"/>
                  <a:pt x="18298" y="11692"/>
                  <a:pt x="18455" y="11757"/>
                </a:cubicBezTo>
                <a:cubicBezTo>
                  <a:pt x="18471" y="11774"/>
                  <a:pt x="18488" y="11790"/>
                  <a:pt x="18504" y="11807"/>
                </a:cubicBezTo>
              </a:path>
              <a:path w="4367" h="2482">
                <a:moveTo>
                  <a:pt x="18703" y="11435"/>
                </a:moveTo>
                <a:cubicBezTo>
                  <a:pt x="18797" y="11422"/>
                  <a:pt x="19010" y="11421"/>
                  <a:pt x="18827" y="11559"/>
                </a:cubicBezTo>
                <a:cubicBezTo>
                  <a:pt x="18794" y="11576"/>
                  <a:pt x="18761" y="11592"/>
                  <a:pt x="18728" y="11609"/>
                </a:cubicBezTo>
                <a:cubicBezTo>
                  <a:pt x="18858" y="11594"/>
                  <a:pt x="19152" y="11612"/>
                  <a:pt x="18976" y="11832"/>
                </a:cubicBezTo>
                <a:cubicBezTo>
                  <a:pt x="18887" y="11943"/>
                  <a:pt x="18747" y="11865"/>
                  <a:pt x="18653" y="11832"/>
                </a:cubicBezTo>
              </a:path>
              <a:path w="4367" h="2482">
                <a:moveTo>
                  <a:pt x="18529" y="12105"/>
                </a:moveTo>
                <a:cubicBezTo>
                  <a:pt x="18747" y="12091"/>
                  <a:pt x="18956" y="12080"/>
                  <a:pt x="19174" y="12080"/>
                </a:cubicBezTo>
              </a:path>
              <a:path w="4367" h="2482">
                <a:moveTo>
                  <a:pt x="18529" y="12378"/>
                </a:moveTo>
                <a:cubicBezTo>
                  <a:pt x="18474" y="12488"/>
                  <a:pt x="18462" y="12529"/>
                  <a:pt x="18479" y="12650"/>
                </a:cubicBezTo>
                <a:cubicBezTo>
                  <a:pt x="18632" y="12644"/>
                  <a:pt x="18775" y="12627"/>
                  <a:pt x="18926" y="12601"/>
                </a:cubicBezTo>
              </a:path>
              <a:path w="4367" h="2482">
                <a:moveTo>
                  <a:pt x="18802" y="12477"/>
                </a:moveTo>
                <a:cubicBezTo>
                  <a:pt x="18782" y="12610"/>
                  <a:pt x="18761" y="12741"/>
                  <a:pt x="18752" y="12874"/>
                </a:cubicBezTo>
              </a:path>
              <a:path w="4367" h="2482">
                <a:moveTo>
                  <a:pt x="19323" y="12204"/>
                </a:moveTo>
                <a:cubicBezTo>
                  <a:pt x="19417" y="12334"/>
                  <a:pt x="19500" y="12474"/>
                  <a:pt x="19596" y="12601"/>
                </a:cubicBezTo>
              </a:path>
              <a:path w="4367" h="2482">
                <a:moveTo>
                  <a:pt x="19621" y="12179"/>
                </a:moveTo>
                <a:cubicBezTo>
                  <a:pt x="19514" y="12286"/>
                  <a:pt x="19412" y="12443"/>
                  <a:pt x="19323" y="12576"/>
                </a:cubicBezTo>
              </a:path>
              <a:path w="4367" h="2482">
                <a:moveTo>
                  <a:pt x="20513" y="10393"/>
                </a:moveTo>
                <a:cubicBezTo>
                  <a:pt x="20521" y="10454"/>
                  <a:pt x="20534" y="10485"/>
                  <a:pt x="20563" y="10542"/>
                </a:cubicBezTo>
              </a:path>
              <a:path w="4367" h="2482">
                <a:moveTo>
                  <a:pt x="20613" y="10468"/>
                </a:moveTo>
                <a:cubicBezTo>
                  <a:pt x="20555" y="10525"/>
                  <a:pt x="20530" y="10550"/>
                  <a:pt x="20489" y="10592"/>
                </a:cubicBezTo>
              </a:path>
              <a:path w="4367" h="2482">
                <a:moveTo>
                  <a:pt x="20042" y="11509"/>
                </a:moveTo>
                <a:cubicBezTo>
                  <a:pt x="20011" y="11594"/>
                  <a:pt x="19918" y="11799"/>
                  <a:pt x="19993" y="11881"/>
                </a:cubicBezTo>
                <a:cubicBezTo>
                  <a:pt x="20120" y="12020"/>
                  <a:pt x="20247" y="11851"/>
                  <a:pt x="20216" y="11757"/>
                </a:cubicBezTo>
                <a:cubicBezTo>
                  <a:pt x="20150" y="11801"/>
                  <a:pt x="20111" y="11840"/>
                  <a:pt x="20067" y="11906"/>
                </a:cubicBezTo>
              </a:path>
              <a:path w="4367" h="2482">
                <a:moveTo>
                  <a:pt x="20389" y="11485"/>
                </a:moveTo>
                <a:cubicBezTo>
                  <a:pt x="20472" y="11464"/>
                  <a:pt x="20487" y="11456"/>
                  <a:pt x="20538" y="11460"/>
                </a:cubicBezTo>
                <a:cubicBezTo>
                  <a:pt x="20566" y="11601"/>
                  <a:pt x="20496" y="11664"/>
                  <a:pt x="20414" y="11782"/>
                </a:cubicBezTo>
                <a:cubicBezTo>
                  <a:pt x="20489" y="11847"/>
                  <a:pt x="20547" y="11832"/>
                  <a:pt x="20662" y="11832"/>
                </a:cubicBezTo>
              </a:path>
              <a:path w="4367" h="2482">
                <a:moveTo>
                  <a:pt x="20042" y="12129"/>
                </a:moveTo>
                <a:cubicBezTo>
                  <a:pt x="20234" y="12107"/>
                  <a:pt x="20420" y="12105"/>
                  <a:pt x="20613" y="12105"/>
                </a:cubicBezTo>
              </a:path>
              <a:path w="4367" h="2482">
                <a:moveTo>
                  <a:pt x="20365" y="12353"/>
                </a:moveTo>
                <a:cubicBezTo>
                  <a:pt x="20384" y="12292"/>
                  <a:pt x="20403" y="12278"/>
                  <a:pt x="20365" y="12254"/>
                </a:cubicBezTo>
                <a:cubicBezTo>
                  <a:pt x="20203" y="12186"/>
                  <a:pt x="20191" y="12259"/>
                  <a:pt x="20092" y="12402"/>
                </a:cubicBezTo>
                <a:cubicBezTo>
                  <a:pt x="20215" y="12446"/>
                  <a:pt x="20342" y="12510"/>
                  <a:pt x="20414" y="12353"/>
                </a:cubicBezTo>
                <a:cubicBezTo>
                  <a:pt x="20422" y="12335"/>
                  <a:pt x="20367" y="12604"/>
                  <a:pt x="20340" y="12675"/>
                </a:cubicBezTo>
                <a:cubicBezTo>
                  <a:pt x="20332" y="12683"/>
                  <a:pt x="20323" y="12692"/>
                  <a:pt x="20315" y="12700"/>
                </a:cubicBezTo>
              </a:path>
              <a:path w="4367" h="2482">
                <a:moveTo>
                  <a:pt x="18331" y="12254"/>
                </a:moveTo>
                <a:cubicBezTo>
                  <a:pt x="18521" y="12433"/>
                  <a:pt x="18689" y="12637"/>
                  <a:pt x="18876" y="12824"/>
                </a:cubicBezTo>
                <a:cubicBezTo>
                  <a:pt x="18884" y="12832"/>
                  <a:pt x="18893" y="12841"/>
                  <a:pt x="18901" y="12849"/>
                </a:cubicBezTo>
              </a:path>
              <a:path w="4367" h="2482">
                <a:moveTo>
                  <a:pt x="17909" y="12477"/>
                </a:moveTo>
                <a:cubicBezTo>
                  <a:pt x="18002" y="12440"/>
                  <a:pt x="18037" y="12437"/>
                  <a:pt x="18132" y="12452"/>
                </a:cubicBezTo>
                <a:cubicBezTo>
                  <a:pt x="18089" y="12598"/>
                  <a:pt x="17956" y="12647"/>
                  <a:pt x="17884" y="12774"/>
                </a:cubicBezTo>
                <a:cubicBezTo>
                  <a:pt x="17832" y="12866"/>
                  <a:pt x="18225" y="12762"/>
                  <a:pt x="18281" y="12750"/>
                </a:cubicBezTo>
              </a:path>
              <a:path w="4367" h="2482">
                <a:moveTo>
                  <a:pt x="19918" y="11534"/>
                </a:moveTo>
                <a:cubicBezTo>
                  <a:pt x="20130" y="11703"/>
                  <a:pt x="20365" y="11800"/>
                  <a:pt x="20613" y="11906"/>
                </a:cubicBezTo>
                <a:cubicBezTo>
                  <a:pt x="20654" y="11923"/>
                  <a:pt x="20696" y="11939"/>
                  <a:pt x="20737" y="11956"/>
                </a:cubicBezTo>
              </a:path>
              <a:path w="4367" h="2482">
                <a:moveTo>
                  <a:pt x="19968" y="11013"/>
                </a:moveTo>
                <a:cubicBezTo>
                  <a:pt x="20001" y="11005"/>
                  <a:pt x="20034" y="10996"/>
                  <a:pt x="20067" y="10988"/>
                </a:cubicBezTo>
                <a:cubicBezTo>
                  <a:pt x="20067" y="11078"/>
                  <a:pt x="19942" y="11127"/>
                  <a:pt x="20017" y="11162"/>
                </a:cubicBezTo>
                <a:cubicBezTo>
                  <a:pt x="20042" y="11170"/>
                  <a:pt x="20067" y="11179"/>
                  <a:pt x="20092" y="11187"/>
                </a:cubicBezTo>
                <a:cubicBezTo>
                  <a:pt x="20062" y="11323"/>
                  <a:pt x="19999" y="11355"/>
                  <a:pt x="19869" y="11385"/>
                </a:cubicBezTo>
              </a:path>
              <a:path w="4367" h="2482">
                <a:moveTo>
                  <a:pt x="20340" y="10964"/>
                </a:moveTo>
                <a:cubicBezTo>
                  <a:pt x="20347" y="11067"/>
                  <a:pt x="20366" y="11160"/>
                  <a:pt x="20389" y="11261"/>
                </a:cubicBezTo>
              </a:path>
              <a:path w="4367" h="2482">
                <a:moveTo>
                  <a:pt x="20811" y="12030"/>
                </a:moveTo>
                <a:cubicBezTo>
                  <a:pt x="20870" y="12030"/>
                  <a:pt x="20911" y="12023"/>
                  <a:pt x="20960" y="12005"/>
                </a:cubicBezTo>
              </a:path>
              <a:path w="4367" h="2482">
                <a:moveTo>
                  <a:pt x="20811" y="12204"/>
                </a:moveTo>
                <a:cubicBezTo>
                  <a:pt x="20868" y="12176"/>
                  <a:pt x="20891" y="12165"/>
                  <a:pt x="20935" y="12154"/>
                </a:cubicBezTo>
              </a:path>
              <a:path w="4367" h="2482">
                <a:moveTo>
                  <a:pt x="21431" y="12204"/>
                </a:moveTo>
                <a:cubicBezTo>
                  <a:pt x="21410" y="12364"/>
                  <a:pt x="21345" y="12480"/>
                  <a:pt x="21282" y="12626"/>
                </a:cubicBezTo>
              </a:path>
              <a:path w="4367" h="2482">
                <a:moveTo>
                  <a:pt x="21828" y="12204"/>
                </a:moveTo>
                <a:cubicBezTo>
                  <a:pt x="21683" y="12321"/>
                  <a:pt x="21731" y="12346"/>
                  <a:pt x="21803" y="12502"/>
                </a:cubicBezTo>
                <a:cubicBezTo>
                  <a:pt x="21880" y="12668"/>
                  <a:pt x="21846" y="12739"/>
                  <a:pt x="21679" y="12725"/>
                </a:cubicBezTo>
                <a:cubicBezTo>
                  <a:pt x="21712" y="12540"/>
                  <a:pt x="21801" y="12424"/>
                  <a:pt x="21927" y="12278"/>
                </a:cubicBezTo>
              </a:path>
              <a:path w="4367" h="2482">
                <a:moveTo>
                  <a:pt x="21307" y="11981"/>
                </a:moveTo>
                <a:cubicBezTo>
                  <a:pt x="21582" y="11938"/>
                  <a:pt x="21853" y="11883"/>
                  <a:pt x="22126" y="11832"/>
                </a:cubicBezTo>
              </a:path>
              <a:path w="4367" h="2482">
                <a:moveTo>
                  <a:pt x="21754" y="11237"/>
                </a:moveTo>
                <a:cubicBezTo>
                  <a:pt x="21720" y="11421"/>
                  <a:pt x="21670" y="11602"/>
                  <a:pt x="21630" y="11782"/>
                </a:cubicBezTo>
              </a:path>
              <a:path w="4367" h="2482">
                <a:moveTo>
                  <a:pt x="21927" y="11162"/>
                </a:moveTo>
                <a:cubicBezTo>
                  <a:pt x="22035" y="11118"/>
                  <a:pt x="22109" y="11096"/>
                  <a:pt x="22225" y="11088"/>
                </a:cubicBezTo>
                <a:cubicBezTo>
                  <a:pt x="22187" y="11213"/>
                  <a:pt x="22112" y="11284"/>
                  <a:pt x="22002" y="11361"/>
                </a:cubicBezTo>
                <a:cubicBezTo>
                  <a:pt x="22149" y="11383"/>
                  <a:pt x="22438" y="11508"/>
                  <a:pt x="22151" y="11658"/>
                </a:cubicBezTo>
                <a:cubicBezTo>
                  <a:pt x="22026" y="11679"/>
                  <a:pt x="21999" y="11695"/>
                  <a:pt x="21927" y="11658"/>
                </a:cubicBezTo>
              </a:path>
              <a:path w="4367" h="2482">
                <a:moveTo>
                  <a:pt x="20985" y="11286"/>
                </a:moveTo>
                <a:cubicBezTo>
                  <a:pt x="21150" y="11286"/>
                  <a:pt x="21316" y="11286"/>
                  <a:pt x="21481" y="11286"/>
                </a:cubicBezTo>
                <a:cubicBezTo>
                  <a:pt x="21398" y="11442"/>
                  <a:pt x="21317" y="11590"/>
                  <a:pt x="21258" y="117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93040" y="3411360"/>
            <a:ext cx="196920" cy="803520"/>
          </a:xfrm>
          <a:custGeom>
            <a:avLst/>
            <a:gdLst/>
            <a:ahLst/>
            <a:rect l="l" t="t" r="r" b="b"/>
            <a:pathLst>
              <a:path w="547" h="2234">
                <a:moveTo>
                  <a:pt x="23589" y="10269"/>
                </a:moveTo>
                <a:cubicBezTo>
                  <a:pt x="23553" y="10377"/>
                  <a:pt x="23489" y="10482"/>
                  <a:pt x="23465" y="10592"/>
                </a:cubicBezTo>
                <a:cubicBezTo>
                  <a:pt x="23439" y="10712"/>
                  <a:pt x="23511" y="10751"/>
                  <a:pt x="23614" y="10765"/>
                </a:cubicBezTo>
                <a:cubicBezTo>
                  <a:pt x="23655" y="10771"/>
                  <a:pt x="23753" y="10741"/>
                  <a:pt x="23788" y="10716"/>
                </a:cubicBezTo>
                <a:cubicBezTo>
                  <a:pt x="23851" y="10670"/>
                  <a:pt x="23887" y="10604"/>
                  <a:pt x="23837" y="10542"/>
                </a:cubicBezTo>
                <a:cubicBezTo>
                  <a:pt x="23791" y="10484"/>
                  <a:pt x="23724" y="10519"/>
                  <a:pt x="23688" y="10567"/>
                </a:cubicBezTo>
                <a:cubicBezTo>
                  <a:pt x="23644" y="10626"/>
                  <a:pt x="23639" y="10696"/>
                  <a:pt x="23639" y="10765"/>
                </a:cubicBezTo>
              </a:path>
              <a:path w="547" h="2234">
                <a:moveTo>
                  <a:pt x="23688" y="9475"/>
                </a:moveTo>
                <a:cubicBezTo>
                  <a:pt x="23659" y="9564"/>
                  <a:pt x="23639" y="9656"/>
                  <a:pt x="23614" y="9748"/>
                </a:cubicBezTo>
              </a:path>
              <a:path w="547" h="2234">
                <a:moveTo>
                  <a:pt x="23316" y="11261"/>
                </a:moveTo>
                <a:cubicBezTo>
                  <a:pt x="23387" y="11275"/>
                  <a:pt x="23675" y="11278"/>
                  <a:pt x="23713" y="11311"/>
                </a:cubicBezTo>
                <a:cubicBezTo>
                  <a:pt x="23800" y="11387"/>
                  <a:pt x="23637" y="11607"/>
                  <a:pt x="23614" y="11683"/>
                </a:cubicBezTo>
                <a:cubicBezTo>
                  <a:pt x="23614" y="11691"/>
                  <a:pt x="23614" y="11700"/>
                  <a:pt x="23614" y="117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8120" y="4670280"/>
            <a:ext cx="1009800" cy="615960"/>
          </a:xfrm>
          <a:custGeom>
            <a:avLst/>
            <a:gdLst/>
            <a:ahLst/>
            <a:rect l="l" t="t" r="r" b="b"/>
            <a:pathLst>
              <a:path w="2804" h="1712">
                <a:moveTo>
                  <a:pt x="21679" y="13221"/>
                </a:moveTo>
                <a:cubicBezTo>
                  <a:pt x="21650" y="13331"/>
                  <a:pt x="21636" y="13430"/>
                  <a:pt x="21630" y="13543"/>
                </a:cubicBezTo>
              </a:path>
              <a:path w="2804" h="1712">
                <a:moveTo>
                  <a:pt x="21952" y="13146"/>
                </a:moveTo>
                <a:cubicBezTo>
                  <a:pt x="21935" y="13272"/>
                  <a:pt x="21891" y="13391"/>
                  <a:pt x="21878" y="13519"/>
                </a:cubicBezTo>
              </a:path>
              <a:path w="2804" h="1712">
                <a:moveTo>
                  <a:pt x="21530" y="13742"/>
                </a:moveTo>
                <a:cubicBezTo>
                  <a:pt x="21714" y="13700"/>
                  <a:pt x="21887" y="13654"/>
                  <a:pt x="22076" y="13643"/>
                </a:cubicBezTo>
              </a:path>
              <a:path w="2804" h="1712">
                <a:moveTo>
                  <a:pt x="21654" y="13841"/>
                </a:moveTo>
                <a:cubicBezTo>
                  <a:pt x="21621" y="13949"/>
                  <a:pt x="21581" y="14037"/>
                  <a:pt x="21530" y="14139"/>
                </a:cubicBezTo>
              </a:path>
              <a:path w="2804" h="1712">
                <a:moveTo>
                  <a:pt x="21977" y="13891"/>
                </a:moveTo>
                <a:cubicBezTo>
                  <a:pt x="21912" y="13912"/>
                  <a:pt x="21896" y="13920"/>
                  <a:pt x="21853" y="13915"/>
                </a:cubicBezTo>
                <a:cubicBezTo>
                  <a:pt x="21903" y="14016"/>
                  <a:pt x="22075" y="14148"/>
                  <a:pt x="21878" y="14213"/>
                </a:cubicBezTo>
                <a:cubicBezTo>
                  <a:pt x="21753" y="14254"/>
                  <a:pt x="22008" y="13984"/>
                  <a:pt x="22027" y="13965"/>
                </a:cubicBezTo>
              </a:path>
              <a:path w="2804" h="1712">
                <a:moveTo>
                  <a:pt x="20042" y="14089"/>
                </a:moveTo>
                <a:cubicBezTo>
                  <a:pt x="20208" y="14159"/>
                  <a:pt x="20372" y="14247"/>
                  <a:pt x="20538" y="14312"/>
                </a:cubicBezTo>
                <a:cubicBezTo>
                  <a:pt x="20847" y="14433"/>
                  <a:pt x="21153" y="14531"/>
                  <a:pt x="21481" y="14585"/>
                </a:cubicBezTo>
                <a:cubicBezTo>
                  <a:pt x="21729" y="14626"/>
                  <a:pt x="21976" y="14677"/>
                  <a:pt x="22225" y="14684"/>
                </a:cubicBezTo>
                <a:cubicBezTo>
                  <a:pt x="22399" y="14689"/>
                  <a:pt x="22670" y="14659"/>
                  <a:pt x="22746" y="14461"/>
                </a:cubicBezTo>
                <a:cubicBezTo>
                  <a:pt x="22818" y="14272"/>
                  <a:pt x="22783" y="13984"/>
                  <a:pt x="22746" y="13791"/>
                </a:cubicBezTo>
                <a:cubicBezTo>
                  <a:pt x="22719" y="13650"/>
                  <a:pt x="22640" y="13548"/>
                  <a:pt x="22547" y="13444"/>
                </a:cubicBezTo>
                <a:cubicBezTo>
                  <a:pt x="22452" y="13337"/>
                  <a:pt x="22279" y="13235"/>
                  <a:pt x="22151" y="13171"/>
                </a:cubicBezTo>
                <a:cubicBezTo>
                  <a:pt x="22002" y="13097"/>
                  <a:pt x="21821" y="13035"/>
                  <a:pt x="21654" y="13022"/>
                </a:cubicBezTo>
                <a:cubicBezTo>
                  <a:pt x="21509" y="13010"/>
                  <a:pt x="21326" y="12967"/>
                  <a:pt x="21183" y="12973"/>
                </a:cubicBezTo>
                <a:cubicBezTo>
                  <a:pt x="21014" y="12980"/>
                  <a:pt x="20775" y="12989"/>
                  <a:pt x="20613" y="13047"/>
                </a:cubicBezTo>
                <a:cubicBezTo>
                  <a:pt x="20468" y="13099"/>
                  <a:pt x="20107" y="13266"/>
                  <a:pt x="20017" y="13395"/>
                </a:cubicBezTo>
                <a:cubicBezTo>
                  <a:pt x="19948" y="13494"/>
                  <a:pt x="19983" y="13604"/>
                  <a:pt x="19993" y="13717"/>
                </a:cubicBezTo>
                <a:cubicBezTo>
                  <a:pt x="20006" y="13872"/>
                  <a:pt x="19988" y="13896"/>
                  <a:pt x="20141" y="13990"/>
                </a:cubicBezTo>
                <a:cubicBezTo>
                  <a:pt x="20218" y="14028"/>
                  <a:pt x="20234" y="14026"/>
                  <a:pt x="20265" y="140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84960" y="4840200"/>
            <a:ext cx="1438200" cy="1606680"/>
          </a:xfrm>
          <a:custGeom>
            <a:avLst/>
            <a:gdLst/>
            <a:ahLst/>
            <a:rect l="l" t="t" r="r" b="b"/>
            <a:pathLst>
              <a:path w="3995" h="4466">
                <a:moveTo>
                  <a:pt x="19447" y="14635"/>
                </a:moveTo>
                <a:cubicBezTo>
                  <a:pt x="19648" y="14635"/>
                  <a:pt x="19872" y="14668"/>
                  <a:pt x="20067" y="14610"/>
                </a:cubicBezTo>
                <a:cubicBezTo>
                  <a:pt x="20075" y="14602"/>
                  <a:pt x="20084" y="14593"/>
                  <a:pt x="20092" y="14585"/>
                </a:cubicBezTo>
                <a:cubicBezTo>
                  <a:pt x="20061" y="14773"/>
                  <a:pt x="19963" y="14929"/>
                  <a:pt x="19893" y="15106"/>
                </a:cubicBezTo>
                <a:cubicBezTo>
                  <a:pt x="19868" y="15183"/>
                  <a:pt x="19863" y="15206"/>
                  <a:pt x="19943" y="15131"/>
                </a:cubicBezTo>
              </a:path>
              <a:path w="3995" h="4466">
                <a:moveTo>
                  <a:pt x="20439" y="14486"/>
                </a:moveTo>
                <a:cubicBezTo>
                  <a:pt x="20393" y="14699"/>
                  <a:pt x="20322" y="14898"/>
                  <a:pt x="20265" y="15106"/>
                </a:cubicBezTo>
              </a:path>
              <a:path w="3995" h="4466">
                <a:moveTo>
                  <a:pt x="20687" y="14436"/>
                </a:moveTo>
                <a:cubicBezTo>
                  <a:pt x="20819" y="14390"/>
                  <a:pt x="20877" y="14368"/>
                  <a:pt x="21010" y="14387"/>
                </a:cubicBezTo>
                <a:cubicBezTo>
                  <a:pt x="20952" y="14527"/>
                  <a:pt x="20902" y="14583"/>
                  <a:pt x="20786" y="14684"/>
                </a:cubicBezTo>
                <a:cubicBezTo>
                  <a:pt x="20876" y="14642"/>
                  <a:pt x="21171" y="14545"/>
                  <a:pt x="21109" y="14784"/>
                </a:cubicBezTo>
                <a:cubicBezTo>
                  <a:pt x="21059" y="14977"/>
                  <a:pt x="20823" y="14944"/>
                  <a:pt x="20687" y="14957"/>
                </a:cubicBezTo>
              </a:path>
              <a:path w="3995" h="4466">
                <a:moveTo>
                  <a:pt x="19224" y="15354"/>
                </a:moveTo>
                <a:cubicBezTo>
                  <a:pt x="19181" y="15130"/>
                  <a:pt x="19177" y="14891"/>
                  <a:pt x="19174" y="14660"/>
                </a:cubicBezTo>
                <a:cubicBezTo>
                  <a:pt x="19174" y="14510"/>
                  <a:pt x="19180" y="14475"/>
                  <a:pt x="19149" y="14387"/>
                </a:cubicBezTo>
                <a:cubicBezTo>
                  <a:pt x="19374" y="14355"/>
                  <a:pt x="19633" y="14364"/>
                  <a:pt x="19869" y="14362"/>
                </a:cubicBezTo>
                <a:cubicBezTo>
                  <a:pt x="20415" y="14358"/>
                  <a:pt x="20959" y="14337"/>
                  <a:pt x="21506" y="14337"/>
                </a:cubicBezTo>
                <a:cubicBezTo>
                  <a:pt x="21638" y="14337"/>
                  <a:pt x="21655" y="14337"/>
                  <a:pt x="21729" y="14337"/>
                </a:cubicBezTo>
              </a:path>
              <a:path w="3995" h="4466">
                <a:moveTo>
                  <a:pt x="18107" y="14635"/>
                </a:moveTo>
                <a:cubicBezTo>
                  <a:pt x="18066" y="14865"/>
                  <a:pt x="18047" y="15098"/>
                  <a:pt x="18008" y="15329"/>
                </a:cubicBezTo>
              </a:path>
              <a:path w="3995" h="4466">
                <a:moveTo>
                  <a:pt x="18604" y="14610"/>
                </a:moveTo>
                <a:cubicBezTo>
                  <a:pt x="18489" y="14610"/>
                  <a:pt x="18443" y="14618"/>
                  <a:pt x="18380" y="14684"/>
                </a:cubicBezTo>
                <a:cubicBezTo>
                  <a:pt x="18380" y="14862"/>
                  <a:pt x="18644" y="14854"/>
                  <a:pt x="18678" y="15056"/>
                </a:cubicBezTo>
                <a:cubicBezTo>
                  <a:pt x="18710" y="15246"/>
                  <a:pt x="18459" y="15240"/>
                  <a:pt x="18355" y="15255"/>
                </a:cubicBezTo>
                <a:cubicBezTo>
                  <a:pt x="18380" y="14991"/>
                  <a:pt x="18537" y="14938"/>
                  <a:pt x="18678" y="14709"/>
                </a:cubicBezTo>
                <a:cubicBezTo>
                  <a:pt x="18678" y="14701"/>
                  <a:pt x="18678" y="14692"/>
                  <a:pt x="18678" y="14684"/>
                </a:cubicBezTo>
              </a:path>
              <a:path w="3995" h="4466">
                <a:moveTo>
                  <a:pt x="20290" y="13692"/>
                </a:moveTo>
                <a:cubicBezTo>
                  <a:pt x="20333" y="13661"/>
                  <a:pt x="20562" y="13525"/>
                  <a:pt x="20613" y="13593"/>
                </a:cubicBezTo>
                <a:cubicBezTo>
                  <a:pt x="20708" y="13721"/>
                  <a:pt x="20451" y="13792"/>
                  <a:pt x="20389" y="13816"/>
                </a:cubicBezTo>
                <a:cubicBezTo>
                  <a:pt x="20514" y="13778"/>
                  <a:pt x="20674" y="13799"/>
                  <a:pt x="20613" y="13990"/>
                </a:cubicBezTo>
                <a:cubicBezTo>
                  <a:pt x="20558" y="14164"/>
                  <a:pt x="20355" y="14122"/>
                  <a:pt x="20241" y="14064"/>
                </a:cubicBezTo>
              </a:path>
              <a:path w="3995" h="4466">
                <a:moveTo>
                  <a:pt x="20241" y="15503"/>
                </a:moveTo>
                <a:cubicBezTo>
                  <a:pt x="20317" y="15384"/>
                  <a:pt x="20165" y="15637"/>
                  <a:pt x="20141" y="15677"/>
                </a:cubicBezTo>
                <a:cubicBezTo>
                  <a:pt x="20264" y="15737"/>
                  <a:pt x="20353" y="15712"/>
                  <a:pt x="20489" y="15701"/>
                </a:cubicBezTo>
              </a:path>
              <a:path w="3995" h="4466">
                <a:moveTo>
                  <a:pt x="20513" y="15404"/>
                </a:moveTo>
                <a:cubicBezTo>
                  <a:pt x="20487" y="15564"/>
                  <a:pt x="20415" y="15713"/>
                  <a:pt x="20389" y="15875"/>
                </a:cubicBezTo>
                <a:cubicBezTo>
                  <a:pt x="20389" y="15892"/>
                  <a:pt x="20389" y="15908"/>
                  <a:pt x="20389" y="15925"/>
                </a:cubicBezTo>
              </a:path>
              <a:path w="3995" h="4466">
                <a:moveTo>
                  <a:pt x="17835" y="13990"/>
                </a:moveTo>
                <a:cubicBezTo>
                  <a:pt x="17861" y="13990"/>
                  <a:pt x="18009" y="13964"/>
                  <a:pt x="17959" y="14039"/>
                </a:cubicBezTo>
                <a:cubicBezTo>
                  <a:pt x="17934" y="14064"/>
                  <a:pt x="17909" y="14089"/>
                  <a:pt x="17884" y="14114"/>
                </a:cubicBezTo>
                <a:cubicBezTo>
                  <a:pt x="17884" y="14200"/>
                  <a:pt x="17993" y="14156"/>
                  <a:pt x="18033" y="14139"/>
                </a:cubicBezTo>
              </a:path>
              <a:path w="3995" h="4466">
                <a:moveTo>
                  <a:pt x="19918" y="15379"/>
                </a:moveTo>
                <a:cubicBezTo>
                  <a:pt x="19850" y="15379"/>
                  <a:pt x="19798" y="15365"/>
                  <a:pt x="19745" y="15354"/>
                </a:cubicBezTo>
                <a:cubicBezTo>
                  <a:pt x="19659" y="15337"/>
                  <a:pt x="19634" y="15467"/>
                  <a:pt x="19621" y="15528"/>
                </a:cubicBezTo>
                <a:cubicBezTo>
                  <a:pt x="19674" y="15555"/>
                  <a:pt x="19853" y="15554"/>
                  <a:pt x="19893" y="15602"/>
                </a:cubicBezTo>
                <a:cubicBezTo>
                  <a:pt x="20036" y="15773"/>
                  <a:pt x="19784" y="15815"/>
                  <a:pt x="19695" y="15825"/>
                </a:cubicBezTo>
              </a:path>
              <a:path w="3995" h="4466">
                <a:moveTo>
                  <a:pt x="19372" y="15999"/>
                </a:moveTo>
                <a:cubicBezTo>
                  <a:pt x="19796" y="15999"/>
                  <a:pt x="20216" y="15994"/>
                  <a:pt x="20638" y="15974"/>
                </a:cubicBezTo>
                <a:cubicBezTo>
                  <a:pt x="20671" y="15974"/>
                  <a:pt x="20704" y="15974"/>
                  <a:pt x="20737" y="15974"/>
                </a:cubicBezTo>
              </a:path>
              <a:path w="3995" h="4466">
                <a:moveTo>
                  <a:pt x="19794" y="14858"/>
                </a:moveTo>
                <a:cubicBezTo>
                  <a:pt x="19891" y="14981"/>
                  <a:pt x="19980" y="15100"/>
                  <a:pt x="20067" y="15230"/>
                </a:cubicBezTo>
              </a:path>
              <a:path w="3995" h="4466">
                <a:moveTo>
                  <a:pt x="19298" y="14833"/>
                </a:moveTo>
                <a:cubicBezTo>
                  <a:pt x="19298" y="14943"/>
                  <a:pt x="19238" y="15255"/>
                  <a:pt x="19348" y="15329"/>
                </a:cubicBezTo>
                <a:cubicBezTo>
                  <a:pt x="19471" y="15411"/>
                  <a:pt x="19501" y="15177"/>
                  <a:pt x="19496" y="15131"/>
                </a:cubicBezTo>
                <a:cubicBezTo>
                  <a:pt x="19396" y="15144"/>
                  <a:pt x="19417" y="15132"/>
                  <a:pt x="19397" y="15230"/>
                </a:cubicBezTo>
              </a:path>
              <a:path w="3995" h="4466">
                <a:moveTo>
                  <a:pt x="20191" y="14734"/>
                </a:moveTo>
                <a:cubicBezTo>
                  <a:pt x="20145" y="14780"/>
                  <a:pt x="20131" y="14792"/>
                  <a:pt x="20117" y="14833"/>
                </a:cubicBezTo>
              </a:path>
              <a:path w="3995" h="4466">
                <a:moveTo>
                  <a:pt x="19199" y="15825"/>
                </a:moveTo>
                <a:cubicBezTo>
                  <a:pt x="19287" y="15781"/>
                  <a:pt x="19308" y="15765"/>
                  <a:pt x="19372" y="15776"/>
                </a:cubicBezTo>
              </a:path>
              <a:path w="3995" h="4466">
                <a:moveTo>
                  <a:pt x="20265" y="16321"/>
                </a:moveTo>
                <a:cubicBezTo>
                  <a:pt x="20359" y="16298"/>
                  <a:pt x="20443" y="16279"/>
                  <a:pt x="20538" y="16272"/>
                </a:cubicBezTo>
                <a:cubicBezTo>
                  <a:pt x="20538" y="16428"/>
                  <a:pt x="20469" y="16570"/>
                  <a:pt x="20389" y="16718"/>
                </a:cubicBezTo>
              </a:path>
              <a:path w="3995" h="4466">
                <a:moveTo>
                  <a:pt x="19993" y="16272"/>
                </a:moveTo>
                <a:cubicBezTo>
                  <a:pt x="19945" y="16452"/>
                  <a:pt x="19884" y="16619"/>
                  <a:pt x="19819" y="16793"/>
                </a:cubicBezTo>
              </a:path>
              <a:path w="3995" h="4466">
                <a:moveTo>
                  <a:pt x="20886" y="16222"/>
                </a:moveTo>
                <a:cubicBezTo>
                  <a:pt x="20941" y="16194"/>
                  <a:pt x="20964" y="16186"/>
                  <a:pt x="21010" y="16197"/>
                </a:cubicBezTo>
                <a:cubicBezTo>
                  <a:pt x="20984" y="16334"/>
                  <a:pt x="20971" y="16354"/>
                  <a:pt x="20861" y="16446"/>
                </a:cubicBezTo>
                <a:cubicBezTo>
                  <a:pt x="20980" y="16418"/>
                  <a:pt x="21108" y="16393"/>
                  <a:pt x="21084" y="16570"/>
                </a:cubicBezTo>
                <a:cubicBezTo>
                  <a:pt x="21062" y="16732"/>
                  <a:pt x="20820" y="16713"/>
                  <a:pt x="20712" y="16718"/>
                </a:cubicBezTo>
              </a:path>
              <a:path w="3995" h="4466">
                <a:moveTo>
                  <a:pt x="21183" y="13767"/>
                </a:moveTo>
                <a:cubicBezTo>
                  <a:pt x="21154" y="13643"/>
                  <a:pt x="21168" y="13570"/>
                  <a:pt x="21059" y="13494"/>
                </a:cubicBezTo>
                <a:cubicBezTo>
                  <a:pt x="20963" y="13427"/>
                  <a:pt x="20780" y="13527"/>
                  <a:pt x="20786" y="13667"/>
                </a:cubicBezTo>
                <a:cubicBezTo>
                  <a:pt x="20803" y="13684"/>
                  <a:pt x="20819" y="13700"/>
                  <a:pt x="20836" y="13717"/>
                </a:cubicBezTo>
                <a:cubicBezTo>
                  <a:pt x="20916" y="13730"/>
                  <a:pt x="21037" y="13743"/>
                  <a:pt x="21084" y="13643"/>
                </a:cubicBezTo>
                <a:cubicBezTo>
                  <a:pt x="21125" y="13556"/>
                  <a:pt x="21064" y="13972"/>
                  <a:pt x="21059" y="14064"/>
                </a:cubicBezTo>
              </a:path>
              <a:path w="3995" h="4466">
                <a:moveTo>
                  <a:pt x="20836" y="16942"/>
                </a:moveTo>
                <a:cubicBezTo>
                  <a:pt x="20928" y="16919"/>
                  <a:pt x="20953" y="16913"/>
                  <a:pt x="21010" y="16892"/>
                </a:cubicBezTo>
                <a:cubicBezTo>
                  <a:pt x="20951" y="17031"/>
                  <a:pt x="20850" y="17088"/>
                  <a:pt x="20786" y="17214"/>
                </a:cubicBezTo>
                <a:cubicBezTo>
                  <a:pt x="20904" y="17234"/>
                  <a:pt x="20949" y="17191"/>
                  <a:pt x="21059" y="17165"/>
                </a:cubicBezTo>
                <a:cubicBezTo>
                  <a:pt x="21076" y="17165"/>
                  <a:pt x="21092" y="17165"/>
                  <a:pt x="21109" y="17165"/>
                </a:cubicBezTo>
              </a:path>
              <a:path w="3995" h="4466">
                <a:moveTo>
                  <a:pt x="17760" y="14089"/>
                </a:moveTo>
                <a:lnTo>
                  <a:pt x="17760" y="14089"/>
                </a:lnTo>
              </a:path>
              <a:path w="3995" h="4466">
                <a:moveTo>
                  <a:pt x="17735" y="14089"/>
                </a:moveTo>
                <a:cubicBezTo>
                  <a:pt x="17834" y="14053"/>
                  <a:pt x="17936" y="14046"/>
                  <a:pt x="18033" y="14015"/>
                </a:cubicBezTo>
                <a:cubicBezTo>
                  <a:pt x="18033" y="14140"/>
                  <a:pt x="18009" y="14241"/>
                  <a:pt x="17983" y="14362"/>
                </a:cubicBezTo>
                <a:cubicBezTo>
                  <a:pt x="17983" y="14370"/>
                  <a:pt x="17983" y="14379"/>
                  <a:pt x="17983" y="14387"/>
                </a:cubicBezTo>
              </a:path>
              <a:path w="3995" h="4466">
                <a:moveTo>
                  <a:pt x="19943" y="16842"/>
                </a:moveTo>
                <a:cubicBezTo>
                  <a:pt x="19892" y="16987"/>
                  <a:pt x="19802" y="17116"/>
                  <a:pt x="19769" y="17264"/>
                </a:cubicBezTo>
                <a:cubicBezTo>
                  <a:pt x="19769" y="17281"/>
                  <a:pt x="19769" y="17297"/>
                  <a:pt x="19769" y="17314"/>
                </a:cubicBezTo>
              </a:path>
              <a:path w="3995" h="4466">
                <a:moveTo>
                  <a:pt x="20315" y="16842"/>
                </a:moveTo>
                <a:cubicBezTo>
                  <a:pt x="20307" y="16941"/>
                  <a:pt x="20234" y="17073"/>
                  <a:pt x="20290" y="17165"/>
                </a:cubicBezTo>
                <a:cubicBezTo>
                  <a:pt x="20371" y="17298"/>
                  <a:pt x="20455" y="17269"/>
                  <a:pt x="20538" y="17165"/>
                </a:cubicBezTo>
                <a:cubicBezTo>
                  <a:pt x="20546" y="17148"/>
                  <a:pt x="20555" y="17132"/>
                  <a:pt x="20563" y="17115"/>
                </a:cubicBezTo>
                <a:cubicBezTo>
                  <a:pt x="20437" y="17087"/>
                  <a:pt x="20423" y="17145"/>
                  <a:pt x="20340" y="17239"/>
                </a:cubicBezTo>
              </a:path>
              <a:path w="3995" h="4466">
                <a:moveTo>
                  <a:pt x="19769" y="17487"/>
                </a:moveTo>
                <a:cubicBezTo>
                  <a:pt x="20059" y="17426"/>
                  <a:pt x="20341" y="17438"/>
                  <a:pt x="20638" y="17438"/>
                </a:cubicBezTo>
                <a:cubicBezTo>
                  <a:pt x="20848" y="17438"/>
                  <a:pt x="21049" y="17423"/>
                  <a:pt x="21258" y="17413"/>
                </a:cubicBezTo>
              </a:path>
              <a:path w="3995" h="4466">
                <a:moveTo>
                  <a:pt x="20613" y="17611"/>
                </a:moveTo>
                <a:cubicBezTo>
                  <a:pt x="20534" y="17679"/>
                  <a:pt x="20206" y="17927"/>
                  <a:pt x="20439" y="17884"/>
                </a:cubicBezTo>
              </a:path>
              <a:path w="3995" h="4466">
                <a:moveTo>
                  <a:pt x="20910" y="17611"/>
                </a:moveTo>
                <a:cubicBezTo>
                  <a:pt x="20883" y="17715"/>
                  <a:pt x="20860" y="17788"/>
                  <a:pt x="20811" y="178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2514600"/>
                <a:ext cx="838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446040" y="3673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19320" y="3733920"/>
                <a:ext cx="1218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46040" y="52387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143000" y="5105520"/>
                <a:ext cx="1143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eet C-6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1:06:50Z</dcterms:created>
  <dc:creator>Brian McGrath</dc:creator>
  <dc:description/>
  <dc:language>en-US</dc:language>
  <cp:lastModifiedBy>deanne elizabeth mcgrath</cp:lastModifiedBy>
  <dcterms:modified xsi:type="dcterms:W3CDTF">2010-11-03T17:53:41Z</dcterms:modified>
  <cp:revision>3</cp:revision>
  <dc:subject/>
  <dc:title>Warm - up:</dc:title>
</cp:coreProperties>
</file>